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360" y="1371600"/>
            <a:ext cx="775512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0" y="266760"/>
            <a:ext cx="906768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ffff00"/>
                </a:solidFill>
                <a:latin typeface="Book Antiqua"/>
                <a:ea typeface="Book Antiqua"/>
              </a:rPr>
              <a:t>What is MIMOSA and What’s It’s Mi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4920" y="2905200"/>
            <a:ext cx="845820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Non-profit Organization Composed of Progressive Users, Suppliers, and Service Providers of Industrial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Goal Is To Gain Maximum Benefit From Equipment Asset Systems By Providing Open Electronic Exchange Conventions For Vendors To Produce Open Equipment Purchasing, Performance, Operation, Maintenance, and Reliability Informa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31800" y="1797120"/>
            <a:ext cx="2060640" cy="9684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2585880" y="2384280"/>
            <a:ext cx="58294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BlarneySCapsSSK"/>
                <a:ea typeface="BlarneySCapsSSK"/>
              </a:rPr>
              <a:t>M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NERY </a:t>
            </a:r>
            <a:r>
              <a:rPr b="1" lang="en-US" sz="1200" spc="-1" strike="noStrike">
                <a:solidFill>
                  <a:srgbClr val="ffffff"/>
                </a:solidFill>
                <a:latin typeface="BlarneySCapsSSK"/>
                <a:ea typeface="BlarneySCapsSSK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ORMATION </a:t>
            </a:r>
            <a:r>
              <a:rPr b="1" lang="en-US" sz="1200" spc="-1" strike="noStrike">
                <a:solidFill>
                  <a:srgbClr val="ffffff"/>
                </a:solidFill>
                <a:latin typeface="BlarneySCapsSSK"/>
                <a:ea typeface="BlarneySCapsSSK"/>
              </a:rPr>
              <a:t>M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GEMENT </a:t>
            </a:r>
            <a:r>
              <a:rPr b="1" lang="en-US" sz="1200" spc="-1" strike="noStrike">
                <a:solidFill>
                  <a:srgbClr val="ffffff"/>
                </a:solidFill>
                <a:latin typeface="BlarneySCapsSSK"/>
                <a:ea typeface="BlarneySCapsSSK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 </a:t>
            </a:r>
            <a:r>
              <a:rPr b="1" lang="en-US" sz="1200" spc="-1" strike="noStrike">
                <a:solidFill>
                  <a:srgbClr val="ffffff"/>
                </a:solidFill>
                <a:latin typeface="BlarneySCapsSSK"/>
                <a:ea typeface="BlarneySCapsSSK"/>
              </a:rPr>
              <a:t>S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STEMS </a:t>
            </a:r>
            <a:r>
              <a:rPr b="1" lang="en-US" sz="1200" spc="-1" strike="noStrike">
                <a:solidFill>
                  <a:srgbClr val="ffffff"/>
                </a:solidFill>
                <a:latin typeface="BlarneySCapsSSK"/>
                <a:ea typeface="BlarneySCapsSSK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I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 flipV="1">
            <a:off x="5748480" y="4260960"/>
            <a:ext cx="0" cy="387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85960" y="3309840"/>
            <a:ext cx="772488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85960" y="3843360"/>
            <a:ext cx="772488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089080" y="3232080"/>
            <a:ext cx="4348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957240" y="3879720"/>
            <a:ext cx="70722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Common Relational Information Schema (C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2171520" y="3357720"/>
            <a:ext cx="5724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Site Zero Database Reference E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766800" y="0"/>
            <a:ext cx="781524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MIMOSA Architecture</a:t>
            </a: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42920" y="4357800"/>
            <a:ext cx="333360" cy="3333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52280" y="4772160"/>
            <a:ext cx="333360" cy="3333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26960" y="4429080"/>
            <a:ext cx="25621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 A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B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52280" y="5224320"/>
            <a:ext cx="333360" cy="333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2314440" y="4624560"/>
            <a:ext cx="1447920" cy="933480"/>
            <a:chOff x="2314440" y="4624560"/>
            <a:chExt cx="1447920" cy="933480"/>
          </a:xfrm>
        </p:grpSpPr>
        <p:sp>
          <p:nvSpPr>
            <p:cNvPr id="1089" name=""/>
            <p:cNvSpPr/>
            <p:nvPr/>
          </p:nvSpPr>
          <p:spPr>
            <a:xfrm>
              <a:off x="2333520" y="5253120"/>
              <a:ext cx="1409760" cy="304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 txBox="1"/>
            <p:nvPr/>
          </p:nvSpPr>
          <p:spPr>
            <a:xfrm>
              <a:off x="2344680" y="4687920"/>
              <a:ext cx="1400040" cy="69840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ndor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14440" y="4624560"/>
              <a:ext cx="1447920" cy="171360"/>
            </a:xfrm>
            <a:prstGeom prst="ellipse">
              <a:avLst/>
            </a:prstGeom>
            <a:solidFill>
              <a:srgbClr val="00dfca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 flipV="1">
            <a:off x="3062160" y="430056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057640" y="4643280"/>
            <a:ext cx="1447920" cy="933840"/>
            <a:chOff x="5057640" y="4643280"/>
            <a:chExt cx="1447920" cy="933840"/>
          </a:xfrm>
        </p:grpSpPr>
        <p:sp>
          <p:nvSpPr>
            <p:cNvPr id="1094" name=""/>
            <p:cNvSpPr/>
            <p:nvPr/>
          </p:nvSpPr>
          <p:spPr>
            <a:xfrm>
              <a:off x="5076720" y="5272200"/>
              <a:ext cx="1409760" cy="304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 txBox="1"/>
            <p:nvPr/>
          </p:nvSpPr>
          <p:spPr>
            <a:xfrm>
              <a:off x="5087880" y="4707000"/>
              <a:ext cx="1400040" cy="698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ndor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057640" y="4643280"/>
              <a:ext cx="1447920" cy="17136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874548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 flipV="1">
            <a:off x="5748480" y="4260960"/>
            <a:ext cx="0" cy="387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885960" y="2247840"/>
            <a:ext cx="3854520" cy="566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ILE Expor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885960" y="3309840"/>
            <a:ext cx="772488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85960" y="3843360"/>
            <a:ext cx="772488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089080" y="3232080"/>
            <a:ext cx="4348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957240" y="3879720"/>
            <a:ext cx="70722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Common Relational Information Schema (C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171520" y="3357720"/>
            <a:ext cx="5724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Site Zero Database Reference E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888840" y="2776680"/>
            <a:ext cx="773424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Export Data (MED) Fil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766800" y="0"/>
            <a:ext cx="781524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MIMOSA Tech-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File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Architecture</a:t>
            </a: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6451560" y="4614840"/>
            <a:ext cx="2692440" cy="18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ech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END (Trends/Alarm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IB (Vibration/Sou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AMPLE (Fluid/Gas/Solid Sampl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RM (Thermograph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G (Asset Register Manage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AG (Diagnos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L (Reliability D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ORK (Work Manage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42920" y="4357800"/>
            <a:ext cx="333360" cy="3333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52280" y="4772160"/>
            <a:ext cx="333360" cy="3333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52280" y="5224320"/>
            <a:ext cx="333360" cy="333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314440" y="4624560"/>
            <a:ext cx="1447920" cy="933480"/>
            <a:chOff x="2314440" y="4624560"/>
            <a:chExt cx="1447920" cy="933480"/>
          </a:xfrm>
        </p:grpSpPr>
        <p:sp>
          <p:nvSpPr>
            <p:cNvPr id="1112" name=""/>
            <p:cNvSpPr/>
            <p:nvPr/>
          </p:nvSpPr>
          <p:spPr>
            <a:xfrm>
              <a:off x="2333520" y="5253120"/>
              <a:ext cx="1409760" cy="304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 txBox="1"/>
            <p:nvPr/>
          </p:nvSpPr>
          <p:spPr>
            <a:xfrm>
              <a:off x="2344680" y="4687920"/>
              <a:ext cx="1400040" cy="69840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ndor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314440" y="4624560"/>
              <a:ext cx="1447920" cy="171360"/>
            </a:xfrm>
            <a:prstGeom prst="ellipse">
              <a:avLst/>
            </a:prstGeom>
            <a:solidFill>
              <a:srgbClr val="00dfca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"/>
          <p:cNvSpPr/>
          <p:nvPr/>
        </p:nvSpPr>
        <p:spPr>
          <a:xfrm flipV="1">
            <a:off x="3062160" y="430056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5057640" y="4643280"/>
            <a:ext cx="1447920" cy="933840"/>
            <a:chOff x="5057640" y="4643280"/>
            <a:chExt cx="1447920" cy="933840"/>
          </a:xfrm>
        </p:grpSpPr>
        <p:sp>
          <p:nvSpPr>
            <p:cNvPr id="1117" name=""/>
            <p:cNvSpPr/>
            <p:nvPr/>
          </p:nvSpPr>
          <p:spPr>
            <a:xfrm>
              <a:off x="5076720" y="5272200"/>
              <a:ext cx="1409760" cy="304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 txBox="1"/>
            <p:nvPr/>
          </p:nvSpPr>
          <p:spPr>
            <a:xfrm>
              <a:off x="5087880" y="4707000"/>
              <a:ext cx="1400040" cy="698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ndor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057640" y="4643280"/>
              <a:ext cx="1447920" cy="17136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 txBox="1"/>
          <p:nvPr/>
        </p:nvSpPr>
        <p:spPr>
          <a:xfrm>
            <a:off x="4734000" y="2228760"/>
            <a:ext cx="3876840" cy="566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ILE Import 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885960" y="1693800"/>
            <a:ext cx="3854520" cy="56664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 A MIMOS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727520" y="1693800"/>
            <a:ext cx="3895560" cy="566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 B MIMOS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il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060800" y="585720"/>
            <a:ext cx="717840" cy="348120"/>
          </a:xfrm>
          <a:custGeom>
            <a:avLst/>
            <a:gdLst/>
            <a:ahLst/>
            <a:rect l="0" t="0" r="r" b="b"/>
            <a:pathLst>
              <a:path w="1994" h="967">
                <a:moveTo>
                  <a:pt x="396" y="0"/>
                </a:moveTo>
                <a:lnTo>
                  <a:pt x="1994" y="0"/>
                </a:lnTo>
                <a:lnTo>
                  <a:pt x="1588" y="967"/>
                </a:lnTo>
                <a:lnTo>
                  <a:pt x="0" y="967"/>
                </a:lnTo>
                <a:lnTo>
                  <a:pt x="396" y="0"/>
                </a:lnTo>
                <a:close/>
              </a:path>
            </a:pathLst>
          </a:cu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13080" y="738360"/>
            <a:ext cx="717840" cy="348120"/>
          </a:xfrm>
          <a:custGeom>
            <a:avLst/>
            <a:gdLst/>
            <a:ahLst/>
            <a:rect l="0" t="0" r="r" b="b"/>
            <a:pathLst>
              <a:path w="1994" h="967">
                <a:moveTo>
                  <a:pt x="396" y="0"/>
                </a:moveTo>
                <a:lnTo>
                  <a:pt x="1994" y="0"/>
                </a:lnTo>
                <a:lnTo>
                  <a:pt x="1588" y="967"/>
                </a:lnTo>
                <a:lnTo>
                  <a:pt x="0" y="967"/>
                </a:lnTo>
                <a:lnTo>
                  <a:pt x="396" y="0"/>
                </a:lnTo>
                <a:close/>
              </a:path>
            </a:pathLst>
          </a:cu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365720" y="890640"/>
            <a:ext cx="717840" cy="348120"/>
          </a:xfrm>
          <a:custGeom>
            <a:avLst/>
            <a:gdLst/>
            <a:ahLst/>
            <a:rect l="0" t="0" r="r" b="b"/>
            <a:pathLst>
              <a:path w="1994" h="967">
                <a:moveTo>
                  <a:pt x="396" y="0"/>
                </a:moveTo>
                <a:lnTo>
                  <a:pt x="1994" y="0"/>
                </a:lnTo>
                <a:lnTo>
                  <a:pt x="1588" y="967"/>
                </a:lnTo>
                <a:lnTo>
                  <a:pt x="0" y="967"/>
                </a:lnTo>
                <a:lnTo>
                  <a:pt x="396" y="0"/>
                </a:lnTo>
                <a:close/>
              </a:path>
            </a:pathLst>
          </a:cu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5089680" y="617400"/>
            <a:ext cx="88416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 Fi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2989440" y="920880"/>
            <a:ext cx="0" cy="771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022560" y="933480"/>
            <a:ext cx="708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5973840" y="920880"/>
            <a:ext cx="0" cy="771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5329080" y="933480"/>
            <a:ext cx="663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556080" y="5562720"/>
            <a:ext cx="2962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ateg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Service Segments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Functional Loc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Assets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Serialized Equip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Ordered Lists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 (Routes, etc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Solution Packs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 (Pre-planne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484200" y="4491000"/>
            <a:ext cx="180180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A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B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P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Be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66680" y="5773680"/>
            <a:ext cx="333360" cy="333360"/>
          </a:xfrm>
          <a:prstGeom prst="rect">
            <a:avLst/>
          </a:prstGeom>
          <a:solidFill>
            <a:srgbClr val="e95f6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 flipV="1">
            <a:off x="5748480" y="4260960"/>
            <a:ext cx="0" cy="387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885960" y="2247840"/>
            <a:ext cx="3854520" cy="566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ta Expor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885960" y="3309840"/>
            <a:ext cx="772488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885960" y="3843360"/>
            <a:ext cx="772488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089080" y="3232080"/>
            <a:ext cx="4348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957240" y="3879720"/>
            <a:ext cx="70722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Common Relational Information Schema (C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171520" y="3357720"/>
            <a:ext cx="5724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Site Zero Database Reference E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888840" y="2776680"/>
            <a:ext cx="773424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Bulk Data (MBD) Fil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766800" y="0"/>
            <a:ext cx="781524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MIMOSA Tech-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Data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Architecture</a:t>
            </a: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6451560" y="4614840"/>
            <a:ext cx="269244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ech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END (Trends/Alarm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IB (Vibration/Sou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AMPLE (Fluid/Gas/Solid Sampl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RM (Thermograph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42920" y="4357800"/>
            <a:ext cx="333360" cy="3333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52280" y="4772160"/>
            <a:ext cx="333360" cy="3333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52280" y="5224320"/>
            <a:ext cx="333360" cy="333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2314440" y="4624560"/>
            <a:ext cx="1447920" cy="933480"/>
            <a:chOff x="2314440" y="4624560"/>
            <a:chExt cx="1447920" cy="933480"/>
          </a:xfrm>
        </p:grpSpPr>
        <p:sp>
          <p:nvSpPr>
            <p:cNvPr id="1148" name=""/>
            <p:cNvSpPr/>
            <p:nvPr/>
          </p:nvSpPr>
          <p:spPr>
            <a:xfrm>
              <a:off x="2333520" y="5253120"/>
              <a:ext cx="1409760" cy="304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>
              <a:off x="2344680" y="4687920"/>
              <a:ext cx="1400040" cy="69840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ndor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314440" y="4624560"/>
              <a:ext cx="1447920" cy="171360"/>
            </a:xfrm>
            <a:prstGeom prst="ellipse">
              <a:avLst/>
            </a:prstGeom>
            <a:solidFill>
              <a:srgbClr val="00dfca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 flipV="1">
            <a:off x="3062160" y="430056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5057640" y="4643280"/>
            <a:ext cx="1447920" cy="933840"/>
            <a:chOff x="5057640" y="4643280"/>
            <a:chExt cx="1447920" cy="933840"/>
          </a:xfrm>
        </p:grpSpPr>
        <p:sp>
          <p:nvSpPr>
            <p:cNvPr id="1153" name=""/>
            <p:cNvSpPr/>
            <p:nvPr/>
          </p:nvSpPr>
          <p:spPr>
            <a:xfrm>
              <a:off x="5076720" y="5272200"/>
              <a:ext cx="1409760" cy="304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 txBox="1"/>
            <p:nvPr/>
          </p:nvSpPr>
          <p:spPr>
            <a:xfrm>
              <a:off x="5087880" y="4707000"/>
              <a:ext cx="1400040" cy="698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ndor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057640" y="4643280"/>
              <a:ext cx="1447920" cy="17136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"/>
          <p:cNvSpPr txBox="1"/>
          <p:nvPr/>
        </p:nvSpPr>
        <p:spPr>
          <a:xfrm>
            <a:off x="4734000" y="2228760"/>
            <a:ext cx="3876840" cy="566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ta Import 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885960" y="1693800"/>
            <a:ext cx="3854520" cy="56664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 A MIMOS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727520" y="1693800"/>
            <a:ext cx="3895560" cy="566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 B MIMOS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ta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060800" y="585720"/>
            <a:ext cx="1097280" cy="651240"/>
          </a:xfrm>
          <a:custGeom>
            <a:avLst/>
            <a:gdLst/>
            <a:ahLst/>
            <a:rect l="0" t="0" r="r" b="b"/>
            <a:pathLst>
              <a:path w="3048" h="1809">
                <a:moveTo>
                  <a:pt x="608" y="0"/>
                </a:moveTo>
                <a:lnTo>
                  <a:pt x="3048" y="0"/>
                </a:lnTo>
                <a:lnTo>
                  <a:pt x="2430" y="1809"/>
                </a:lnTo>
                <a:lnTo>
                  <a:pt x="0" y="1809"/>
                </a:lnTo>
                <a:lnTo>
                  <a:pt x="608" y="0"/>
                </a:lnTo>
                <a:close/>
              </a:path>
            </a:pathLst>
          </a:cu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5089680" y="617400"/>
            <a:ext cx="8082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BD F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2989440" y="920880"/>
            <a:ext cx="0" cy="771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997360" y="927000"/>
            <a:ext cx="733320" cy="6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973840" y="920880"/>
            <a:ext cx="0" cy="771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5329080" y="927000"/>
            <a:ext cx="638280" cy="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556080" y="5562720"/>
            <a:ext cx="2962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ateg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Service Segments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Functional Loc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Assets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Serialized Equip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Ordered Lists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 (Routes, etc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Solution Packs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 (Pre-planne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484200" y="4491000"/>
            <a:ext cx="180180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A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B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P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Be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66680" y="5773680"/>
            <a:ext cx="333360" cy="333360"/>
          </a:xfrm>
          <a:prstGeom prst="rect">
            <a:avLst/>
          </a:prstGeom>
          <a:solidFill>
            <a:srgbClr val="e95f6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 flipV="1">
            <a:off x="5748480" y="4260960"/>
            <a:ext cx="0" cy="387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885960" y="2247840"/>
            <a:ext cx="3854520" cy="566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QL Server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885960" y="3309840"/>
            <a:ext cx="772488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885960" y="3843360"/>
            <a:ext cx="772488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089080" y="3232080"/>
            <a:ext cx="4348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957240" y="3879720"/>
            <a:ext cx="70722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Common Relational Information Schema (C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2171520" y="3357720"/>
            <a:ext cx="5724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Site Zero Databa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E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888840" y="2776680"/>
            <a:ext cx="773424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SQL/Call Level Interfac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766800" y="0"/>
            <a:ext cx="781524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MIMOSA Tech-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SQL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Architecture</a:t>
            </a: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2314440" y="4624560"/>
            <a:ext cx="1447920" cy="933480"/>
            <a:chOff x="2314440" y="4624560"/>
            <a:chExt cx="1447920" cy="933480"/>
          </a:xfrm>
        </p:grpSpPr>
        <p:sp>
          <p:nvSpPr>
            <p:cNvPr id="1178" name=""/>
            <p:cNvSpPr/>
            <p:nvPr/>
          </p:nvSpPr>
          <p:spPr>
            <a:xfrm>
              <a:off x="2333520" y="5253120"/>
              <a:ext cx="1409760" cy="304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 txBox="1"/>
            <p:nvPr/>
          </p:nvSpPr>
          <p:spPr>
            <a:xfrm>
              <a:off x="2344680" y="4687920"/>
              <a:ext cx="1400040" cy="69840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ndor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314440" y="4624560"/>
              <a:ext cx="1447920" cy="171360"/>
            </a:xfrm>
            <a:prstGeom prst="ellipse">
              <a:avLst/>
            </a:prstGeom>
            <a:solidFill>
              <a:srgbClr val="00dfca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"/>
          <p:cNvSpPr/>
          <p:nvPr/>
        </p:nvSpPr>
        <p:spPr>
          <a:xfrm flipV="1">
            <a:off x="3062160" y="430056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057640" y="4643280"/>
            <a:ext cx="1447920" cy="933840"/>
            <a:chOff x="5057640" y="4643280"/>
            <a:chExt cx="1447920" cy="933840"/>
          </a:xfrm>
        </p:grpSpPr>
        <p:sp>
          <p:nvSpPr>
            <p:cNvPr id="1183" name=""/>
            <p:cNvSpPr/>
            <p:nvPr/>
          </p:nvSpPr>
          <p:spPr>
            <a:xfrm>
              <a:off x="5076720" y="5272200"/>
              <a:ext cx="1409760" cy="304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 txBox="1"/>
            <p:nvPr/>
          </p:nvSpPr>
          <p:spPr>
            <a:xfrm>
              <a:off x="5087880" y="4707000"/>
              <a:ext cx="1400040" cy="698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ndor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57640" y="4643280"/>
              <a:ext cx="1447920" cy="17136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"/>
          <p:cNvSpPr txBox="1"/>
          <p:nvPr/>
        </p:nvSpPr>
        <p:spPr>
          <a:xfrm>
            <a:off x="4734000" y="2228760"/>
            <a:ext cx="3876840" cy="566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QL Client 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885960" y="1693800"/>
            <a:ext cx="3854520" cy="56664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 A MIMOS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4727520" y="1693800"/>
            <a:ext cx="3895560" cy="566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 B MIMOS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QL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900600" y="1236600"/>
            <a:ext cx="1429200" cy="411480"/>
          </a:xfrm>
          <a:custGeom>
            <a:avLst/>
            <a:gdLst/>
            <a:ahLst/>
            <a:rect l="0" t="0" r="r" b="b"/>
            <a:pathLst>
              <a:path w="3970" h="1143">
                <a:moveTo>
                  <a:pt x="1332" y="768"/>
                </a:moveTo>
                <a:lnTo>
                  <a:pt x="1354" y="688"/>
                </a:lnTo>
                <a:lnTo>
                  <a:pt x="1429" y="609"/>
                </a:lnTo>
                <a:lnTo>
                  <a:pt x="1500" y="542"/>
                </a:lnTo>
                <a:lnTo>
                  <a:pt x="1619" y="489"/>
                </a:lnTo>
                <a:lnTo>
                  <a:pt x="1738" y="454"/>
                </a:lnTo>
                <a:lnTo>
                  <a:pt x="1901" y="423"/>
                </a:lnTo>
                <a:lnTo>
                  <a:pt x="2069" y="410"/>
                </a:lnTo>
                <a:lnTo>
                  <a:pt x="2236" y="418"/>
                </a:lnTo>
                <a:lnTo>
                  <a:pt x="2426" y="440"/>
                </a:lnTo>
                <a:lnTo>
                  <a:pt x="2593" y="476"/>
                </a:lnTo>
                <a:lnTo>
                  <a:pt x="2735" y="529"/>
                </a:lnTo>
                <a:lnTo>
                  <a:pt x="2854" y="587"/>
                </a:lnTo>
                <a:lnTo>
                  <a:pt x="2973" y="653"/>
                </a:lnTo>
                <a:lnTo>
                  <a:pt x="3044" y="733"/>
                </a:lnTo>
                <a:lnTo>
                  <a:pt x="3093" y="812"/>
                </a:lnTo>
                <a:lnTo>
                  <a:pt x="3093" y="896"/>
                </a:lnTo>
                <a:lnTo>
                  <a:pt x="3970" y="962"/>
                </a:lnTo>
                <a:lnTo>
                  <a:pt x="3948" y="790"/>
                </a:lnTo>
                <a:lnTo>
                  <a:pt x="3878" y="631"/>
                </a:lnTo>
                <a:lnTo>
                  <a:pt x="3710" y="476"/>
                </a:lnTo>
                <a:lnTo>
                  <a:pt x="3520" y="343"/>
                </a:lnTo>
                <a:lnTo>
                  <a:pt x="3260" y="220"/>
                </a:lnTo>
                <a:lnTo>
                  <a:pt x="2973" y="123"/>
                </a:lnTo>
                <a:lnTo>
                  <a:pt x="2638" y="48"/>
                </a:lnTo>
                <a:lnTo>
                  <a:pt x="2474" y="22"/>
                </a:lnTo>
                <a:lnTo>
                  <a:pt x="2285" y="4"/>
                </a:lnTo>
                <a:lnTo>
                  <a:pt x="2095" y="0"/>
                </a:lnTo>
                <a:lnTo>
                  <a:pt x="1928" y="0"/>
                </a:lnTo>
                <a:lnTo>
                  <a:pt x="1760" y="4"/>
                </a:lnTo>
                <a:lnTo>
                  <a:pt x="1592" y="22"/>
                </a:lnTo>
                <a:lnTo>
                  <a:pt x="1429" y="44"/>
                </a:lnTo>
                <a:lnTo>
                  <a:pt x="1284" y="70"/>
                </a:lnTo>
                <a:lnTo>
                  <a:pt x="1024" y="158"/>
                </a:lnTo>
                <a:lnTo>
                  <a:pt x="784" y="264"/>
                </a:lnTo>
                <a:lnTo>
                  <a:pt x="617" y="396"/>
                </a:lnTo>
                <a:lnTo>
                  <a:pt x="498" y="542"/>
                </a:lnTo>
                <a:lnTo>
                  <a:pt x="454" y="702"/>
                </a:lnTo>
                <a:lnTo>
                  <a:pt x="0" y="666"/>
                </a:lnTo>
                <a:lnTo>
                  <a:pt x="855" y="1143"/>
                </a:lnTo>
                <a:lnTo>
                  <a:pt x="1782" y="799"/>
                </a:lnTo>
                <a:lnTo>
                  <a:pt x="1332" y="768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335560" y="1427040"/>
            <a:ext cx="135396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RIS SQL Qu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060800" y="792000"/>
            <a:ext cx="1432440" cy="414720"/>
          </a:xfrm>
          <a:custGeom>
            <a:avLst/>
            <a:gdLst/>
            <a:ahLst/>
            <a:rect l="0" t="0" r="r" b="b"/>
            <a:pathLst>
              <a:path w="3979" h="1152">
                <a:moveTo>
                  <a:pt x="2660" y="777"/>
                </a:moveTo>
                <a:lnTo>
                  <a:pt x="2638" y="693"/>
                </a:lnTo>
                <a:lnTo>
                  <a:pt x="2563" y="618"/>
                </a:lnTo>
                <a:lnTo>
                  <a:pt x="2488" y="556"/>
                </a:lnTo>
                <a:lnTo>
                  <a:pt x="2369" y="499"/>
                </a:lnTo>
                <a:lnTo>
                  <a:pt x="2245" y="459"/>
                </a:lnTo>
                <a:lnTo>
                  <a:pt x="2073" y="433"/>
                </a:lnTo>
                <a:lnTo>
                  <a:pt x="1901" y="419"/>
                </a:lnTo>
                <a:lnTo>
                  <a:pt x="1734" y="424"/>
                </a:lnTo>
                <a:lnTo>
                  <a:pt x="1562" y="446"/>
                </a:lnTo>
                <a:lnTo>
                  <a:pt x="1390" y="481"/>
                </a:lnTo>
                <a:lnTo>
                  <a:pt x="1244" y="530"/>
                </a:lnTo>
                <a:lnTo>
                  <a:pt x="1121" y="591"/>
                </a:lnTo>
                <a:lnTo>
                  <a:pt x="1024" y="658"/>
                </a:lnTo>
                <a:lnTo>
                  <a:pt x="952" y="733"/>
                </a:lnTo>
                <a:lnTo>
                  <a:pt x="899" y="812"/>
                </a:lnTo>
                <a:lnTo>
                  <a:pt x="877" y="901"/>
                </a:lnTo>
                <a:lnTo>
                  <a:pt x="0" y="967"/>
                </a:lnTo>
                <a:lnTo>
                  <a:pt x="22" y="803"/>
                </a:lnTo>
                <a:lnTo>
                  <a:pt x="119" y="636"/>
                </a:lnTo>
                <a:lnTo>
                  <a:pt x="268" y="486"/>
                </a:lnTo>
                <a:lnTo>
                  <a:pt x="485" y="344"/>
                </a:lnTo>
                <a:lnTo>
                  <a:pt x="608" y="282"/>
                </a:lnTo>
                <a:lnTo>
                  <a:pt x="732" y="224"/>
                </a:lnTo>
                <a:lnTo>
                  <a:pt x="877" y="171"/>
                </a:lnTo>
                <a:lnTo>
                  <a:pt x="1024" y="123"/>
                </a:lnTo>
                <a:lnTo>
                  <a:pt x="1196" y="88"/>
                </a:lnTo>
                <a:lnTo>
                  <a:pt x="1341" y="52"/>
                </a:lnTo>
                <a:lnTo>
                  <a:pt x="1535" y="26"/>
                </a:lnTo>
                <a:lnTo>
                  <a:pt x="1707" y="13"/>
                </a:lnTo>
                <a:lnTo>
                  <a:pt x="1879" y="0"/>
                </a:lnTo>
                <a:lnTo>
                  <a:pt x="2073" y="0"/>
                </a:lnTo>
                <a:lnTo>
                  <a:pt x="2245" y="13"/>
                </a:lnTo>
                <a:lnTo>
                  <a:pt x="2391" y="22"/>
                </a:lnTo>
                <a:lnTo>
                  <a:pt x="2563" y="48"/>
                </a:lnTo>
                <a:lnTo>
                  <a:pt x="2708" y="79"/>
                </a:lnTo>
                <a:lnTo>
                  <a:pt x="2854" y="119"/>
                </a:lnTo>
                <a:lnTo>
                  <a:pt x="2977" y="163"/>
                </a:lnTo>
                <a:lnTo>
                  <a:pt x="3102" y="211"/>
                </a:lnTo>
                <a:lnTo>
                  <a:pt x="3199" y="268"/>
                </a:lnTo>
                <a:lnTo>
                  <a:pt x="3296" y="327"/>
                </a:lnTo>
                <a:lnTo>
                  <a:pt x="3371" y="393"/>
                </a:lnTo>
                <a:lnTo>
                  <a:pt x="3490" y="543"/>
                </a:lnTo>
                <a:lnTo>
                  <a:pt x="3538" y="706"/>
                </a:lnTo>
                <a:lnTo>
                  <a:pt x="3979" y="671"/>
                </a:lnTo>
                <a:lnTo>
                  <a:pt x="3124" y="1152"/>
                </a:lnTo>
                <a:lnTo>
                  <a:pt x="2219" y="803"/>
                </a:lnTo>
                <a:lnTo>
                  <a:pt x="2660" y="777"/>
                </a:lnTo>
                <a:close/>
              </a:path>
            </a:pathLst>
          </a:cu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879640" y="965160"/>
            <a:ext cx="11844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RIS Data 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556080" y="5562720"/>
            <a:ext cx="2962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ateg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Service Segments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Functional Loc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Assets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Serialized Equip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Ordered Lists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 (Routes, etc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Solution Packs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 (Pre-planne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81080" y="5319720"/>
            <a:ext cx="333360" cy="333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84200" y="4491000"/>
            <a:ext cx="180180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A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B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P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Be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66680" y="5773680"/>
            <a:ext cx="333360" cy="333360"/>
          </a:xfrm>
          <a:prstGeom prst="rect">
            <a:avLst/>
          </a:prstGeom>
          <a:solidFill>
            <a:srgbClr val="e95f6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66680" y="4859280"/>
            <a:ext cx="333360" cy="33336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6451560" y="4792680"/>
            <a:ext cx="269244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ech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TREND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Static Value Trends/Alarm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VIB (Vibration/Sound/Dynamic D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SAMPLE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Oil/Fluid/Gas/Solid Tes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THERM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Thermograph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REG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Asset Register Manage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DIAG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Diagnostics / Recommend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REL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Reliability / D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WORK (Work Manage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66680" y="4414680"/>
            <a:ext cx="333360" cy="3333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523880" y="1600200"/>
            <a:ext cx="6629400" cy="5335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523880" y="2666880"/>
            <a:ext cx="662940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523880" y="3200400"/>
            <a:ext cx="6629400" cy="45720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371600" y="4495680"/>
            <a:ext cx="3200400" cy="4572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057400" y="5105520"/>
            <a:ext cx="1447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057400" y="5359320"/>
            <a:ext cx="0" cy="800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505320" y="5283360"/>
            <a:ext cx="0" cy="799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057400" y="6019920"/>
            <a:ext cx="1447920" cy="3049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3576600" y="1565280"/>
            <a:ext cx="2752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Ex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727360" y="2589120"/>
            <a:ext cx="4348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595520" y="3165480"/>
            <a:ext cx="6257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1351080" y="4432320"/>
            <a:ext cx="353052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ND-SQL Server f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Seg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781680" y="4788000"/>
            <a:ext cx="0" cy="1141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241720" y="5359320"/>
            <a:ext cx="1111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1671480" y="2662200"/>
            <a:ext cx="67150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ODBC Driver Manag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015920" y="3886200"/>
            <a:ext cx="7581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939960" y="3911760"/>
            <a:ext cx="19044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914400" y="3606840"/>
            <a:ext cx="16524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8458200" y="3911760"/>
            <a:ext cx="24120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8559720" y="3606840"/>
            <a:ext cx="11448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31760" y="3827520"/>
            <a:ext cx="81756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CP/IP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1523880" y="2133720"/>
            <a:ext cx="6629400" cy="5335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ND-SQL for Service Segments Cl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676520" y="210348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1371600" y="4038480"/>
            <a:ext cx="3200400" cy="45720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895480" y="3911760"/>
            <a:ext cx="0" cy="11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2819520" y="4946760"/>
            <a:ext cx="0" cy="24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029200" y="4495680"/>
            <a:ext cx="3200400" cy="4572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5024520" y="4470480"/>
            <a:ext cx="33624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ND-SQL Server f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Seg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5029200" y="4038480"/>
            <a:ext cx="3200400" cy="45720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6705720" y="494676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629400" y="3911760"/>
            <a:ext cx="0" cy="11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648320" y="3683160"/>
            <a:ext cx="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019920" y="5105520"/>
            <a:ext cx="1447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19920" y="5359320"/>
            <a:ext cx="0" cy="800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467480" y="5283360"/>
            <a:ext cx="0" cy="799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19920" y="6019920"/>
            <a:ext cx="1447920" cy="3049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6203880" y="5359320"/>
            <a:ext cx="1111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0" y="266760"/>
            <a:ext cx="90676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Spreadshee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2428920" y="4452840"/>
            <a:ext cx="1447920" cy="304920"/>
          </a:xfrm>
          <a:prstGeom prst="ellipse">
            <a:avLst/>
          </a:prstGeom>
          <a:solidFill>
            <a:srgbClr val="00dfc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428920" y="4627440"/>
            <a:ext cx="0" cy="86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876840" y="4653000"/>
            <a:ext cx="0" cy="79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428920" y="5367240"/>
            <a:ext cx="1447920" cy="3049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575080" y="4707000"/>
            <a:ext cx="1189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3191040" y="4276800"/>
            <a:ext cx="0" cy="276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5748480" y="428148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062680" y="4457880"/>
            <a:ext cx="1447920" cy="304920"/>
          </a:xfrm>
          <a:prstGeom prst="ellipse">
            <a:avLst/>
          </a:prstGeom>
          <a:solidFill>
            <a:srgbClr val="00dfc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100480" y="4695840"/>
            <a:ext cx="0" cy="75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485040" y="4645080"/>
            <a:ext cx="0" cy="83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062680" y="5372280"/>
            <a:ext cx="1447920" cy="3049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5214960" y="4711680"/>
            <a:ext cx="11764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885960" y="3309840"/>
            <a:ext cx="772488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85960" y="3843360"/>
            <a:ext cx="772488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089080" y="3232080"/>
            <a:ext cx="4348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957240" y="3879720"/>
            <a:ext cx="7643880" cy="393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Common Relational Information Schema (CRIS) Vers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2168640" y="3408480"/>
            <a:ext cx="54705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Site Zero Databa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888840" y="2776680"/>
            <a:ext cx="191772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Export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D) File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795240" y="0"/>
            <a:ext cx="781524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ffff00"/>
                </a:solidFill>
                <a:latin typeface="Book Antiqua"/>
                <a:ea typeface="Book Antiqua"/>
              </a:rPr>
              <a:t>MIMOSA Architecture on a Page</a:t>
            </a: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42920" y="4357800"/>
            <a:ext cx="333360" cy="333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52280" y="4772160"/>
            <a:ext cx="333360" cy="333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52280" y="6081840"/>
            <a:ext cx="33336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426960" y="4432320"/>
            <a:ext cx="2063880" cy="20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P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Be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Dra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Design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52280" y="5224320"/>
            <a:ext cx="333360" cy="333360"/>
          </a:xfrm>
          <a:prstGeom prst="rect">
            <a:avLst/>
          </a:prstGeom>
          <a:solidFill>
            <a:srgbClr val="e95f6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6656400" y="2779560"/>
            <a:ext cx="195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Busines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BO)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38240" y="5638680"/>
            <a:ext cx="333360" cy="33336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4718160" y="2776680"/>
            <a:ext cx="195264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SQL/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4727520" y="1235160"/>
            <a:ext cx="1943280" cy="534960"/>
          </a:xfrm>
          <a:prstGeom prst="rect">
            <a:avLst/>
          </a:prstGeom>
          <a:solidFill>
            <a:srgbClr val="ef899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NTEGR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6451560" y="4792680"/>
            <a:ext cx="269244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ech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TREND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Static Value Trends/Alarm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VIB (Vibration/Sound/Dynamic D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SAMPLE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Oil/Fluid/Gas/Solid Tes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THERM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Thermograph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REG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Asset Register Manage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DIAG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Diagnostics / Recommend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REL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Reliability / D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WORK (Work Manage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895320" y="2260440"/>
            <a:ext cx="965160" cy="522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m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847880" y="2260440"/>
            <a:ext cx="965160" cy="522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Ex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2813040" y="2260440"/>
            <a:ext cx="965160" cy="52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m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765600" y="2260440"/>
            <a:ext cx="965160" cy="52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Ex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4730760" y="2260440"/>
            <a:ext cx="965160" cy="522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5686560" y="2270160"/>
            <a:ext cx="1003320" cy="522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er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6670800" y="2276640"/>
            <a:ext cx="965160" cy="52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7613640" y="2266920"/>
            <a:ext cx="993600" cy="52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2774880" y="2776680"/>
            <a:ext cx="19526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Bulk Dat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BD) File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556080" y="5562720"/>
            <a:ext cx="2962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ateg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Service Segments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Functional Loc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Assets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Serialized Equip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Ordered Lists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 (Routes, etc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Solution Packs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 (Pre-planne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4730760" y="730080"/>
            <a:ext cx="194328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88272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m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183528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Ex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280044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m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75300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Ex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471816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5673600" y="1762200"/>
            <a:ext cx="100332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er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6657840" y="176832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7601040" y="1758960"/>
            <a:ext cx="99360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0" y="1352520"/>
            <a:ext cx="8548560" cy="52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Specif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Subset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END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Static Value Trends/Alar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I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ibration/Sound/Dynamic Da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MPL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Oil/Fluid/Gas/Solid Tes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RM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Thermograph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Asset Register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AG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Diagnostics / Recommen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L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Reliability / Da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K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Work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Metho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Multiple MED File Transf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ingle MBD File Transf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Database Query Data Transf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utomatic Handshaking of SQL Client &amp; Serv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oftware Object Commun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0" y="266760"/>
            <a:ext cx="90676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Requesting MIMOSA-Compliant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0" y="1447920"/>
            <a:ext cx="8548560" cy="46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Specif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Seg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(Functional Lo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erialized Equip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Flow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nco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62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62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Out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62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62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current production rel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2.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be candidate production release by December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0" y="13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Requesting MIMOSA-Compliant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2428920" y="4452840"/>
            <a:ext cx="1447920" cy="304920"/>
          </a:xfrm>
          <a:prstGeom prst="ellipse">
            <a:avLst/>
          </a:prstGeom>
          <a:solidFill>
            <a:srgbClr val="00dfc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428920" y="4627440"/>
            <a:ext cx="0" cy="86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876840" y="4653000"/>
            <a:ext cx="0" cy="79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428920" y="5367240"/>
            <a:ext cx="1447920" cy="3049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2575080" y="4707000"/>
            <a:ext cx="1189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191040" y="4276800"/>
            <a:ext cx="0" cy="276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748480" y="428148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062680" y="4457880"/>
            <a:ext cx="1447920" cy="304920"/>
          </a:xfrm>
          <a:prstGeom prst="ellipse">
            <a:avLst/>
          </a:prstGeom>
          <a:solidFill>
            <a:srgbClr val="00dfc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100480" y="4695840"/>
            <a:ext cx="0" cy="75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485040" y="4645080"/>
            <a:ext cx="0" cy="83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062680" y="5372280"/>
            <a:ext cx="1447920" cy="3049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5214960" y="4711680"/>
            <a:ext cx="11764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885960" y="3309840"/>
            <a:ext cx="772488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885960" y="3843360"/>
            <a:ext cx="772488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089080" y="3232080"/>
            <a:ext cx="4348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957240" y="3879720"/>
            <a:ext cx="7643880" cy="393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Common Relational Information Schema (CRIS) Vers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2168640" y="3408480"/>
            <a:ext cx="54705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Site Zero Datab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888840" y="2776680"/>
            <a:ext cx="191772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Export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D) File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0" y="343080"/>
            <a:ext cx="914400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Example:  One Vendor’s Current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MIMOSA Support</a:t>
            </a: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42920" y="4357800"/>
            <a:ext cx="333360" cy="333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52280" y="4772160"/>
            <a:ext cx="333360" cy="333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426960" y="4432320"/>
            <a:ext cx="1801800" cy="20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P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4718160" y="2776680"/>
            <a:ext cx="195264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SQL/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6451560" y="4792680"/>
            <a:ext cx="269244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ech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TREND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Static Value Trends/Alarm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VIB (Vibration/Sou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895320" y="2260440"/>
            <a:ext cx="965160" cy="522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m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1847880" y="2260440"/>
            <a:ext cx="965160" cy="522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Ex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5686560" y="2270160"/>
            <a:ext cx="1003320" cy="522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er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3556080" y="5562720"/>
            <a:ext cx="2962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ateg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Service Segments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Functional Loc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88272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m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183528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Ex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5673600" y="1762200"/>
            <a:ext cx="100332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er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8580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784920" y="1631880"/>
            <a:ext cx="18525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inte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644920" y="2903400"/>
            <a:ext cx="0" cy="254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0" y="2014560"/>
            <a:ext cx="2452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echanical De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dition Monitoring Data &amp; Abnormal Ev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610080" y="5068800"/>
            <a:ext cx="3402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cess Condition Monitoring Data, Normal/Abnormal Events, Control Logic, &amp; Operator Displ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581280" y="5848200"/>
            <a:ext cx="157644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714840" y="5924520"/>
            <a:ext cx="1276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CS, PLC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45120" y="5848200"/>
            <a:ext cx="1482840" cy="61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384880" y="5848200"/>
            <a:ext cx="9828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isto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7996320" y="6550200"/>
            <a:ext cx="10000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valon"/>
                <a:ea typeface="Avalon"/>
              </a:rPr>
              <a:t>Sept.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659040" y="1514520"/>
            <a:ext cx="257508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sset Health, Reliability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amp; Optimization 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348080" y="2103480"/>
            <a:ext cx="1305000" cy="2676600"/>
            <a:chOff x="4348080" y="2103480"/>
            <a:chExt cx="1305000" cy="2676600"/>
          </a:xfrm>
        </p:grpSpPr>
        <p:sp>
          <p:nvSpPr>
            <p:cNvPr id="627" name=""/>
            <p:cNvSpPr txBox="1"/>
            <p:nvPr/>
          </p:nvSpPr>
          <p:spPr>
            <a:xfrm>
              <a:off x="4348080" y="3882960"/>
              <a:ext cx="1295280" cy="44928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ability &amp; RC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ud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4348080" y="4327560"/>
              <a:ext cx="1295280" cy="45252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fiency 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4357800" y="2103480"/>
              <a:ext cx="1295280" cy="45252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agnostics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alth 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4357800" y="2546280"/>
              <a:ext cx="1295280" cy="45720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dition-ba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t.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4357800" y="2992320"/>
              <a:ext cx="1285920" cy="44928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gh-tech. 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ODS, Recip.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348080" y="3432240"/>
              <a:ext cx="1295280" cy="46512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ot Ca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6927840" y="566640"/>
            <a:ext cx="1752480" cy="45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1025640"/>
            <a:ext cx="1752480" cy="46044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929280" y="603360"/>
            <a:ext cx="193356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 Accoun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940440" y="1050840"/>
            <a:ext cx="137484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Sched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726240" y="25560"/>
            <a:ext cx="22701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terprise Resource Planning Data (ER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" y="343080"/>
            <a:ext cx="1752480" cy="9144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38120" y="0"/>
            <a:ext cx="19749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duct Eng.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" y="343080"/>
            <a:ext cx="1752480" cy="4572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20840" y="360360"/>
            <a:ext cx="1984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eering 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8640" y="798480"/>
            <a:ext cx="1984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 Configuration Mana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09480" y="5549760"/>
            <a:ext cx="26161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lant-wide Machin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nformation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ata Island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898800" y="6448320"/>
            <a:ext cx="0" cy="303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194000" y="6456240"/>
            <a:ext cx="0" cy="303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4863960" y="6448320"/>
            <a:ext cx="0" cy="303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843600" y="2157480"/>
            <a:ext cx="1752480" cy="2759040"/>
            <a:chOff x="6843600" y="2157480"/>
            <a:chExt cx="1752480" cy="2759040"/>
          </a:xfrm>
        </p:grpSpPr>
        <p:sp>
          <p:nvSpPr>
            <p:cNvPr id="648" name=""/>
            <p:cNvSpPr txBox="1"/>
            <p:nvPr/>
          </p:nvSpPr>
          <p:spPr>
            <a:xfrm>
              <a:off x="6843600" y="445608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tenance C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coun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6843600" y="399240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ol &amp; Re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ipment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6843600" y="353052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s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6843600" y="307008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tenance 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6843600" y="261000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ventive Mainten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hedules (Time or 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6843600" y="215748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al Location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et Hierarchy Regis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920" y="2884320"/>
            <a:ext cx="2327400" cy="2238840"/>
            <a:chOff x="7920" y="2884320"/>
            <a:chExt cx="2327400" cy="2238840"/>
          </a:xfrm>
        </p:grpSpPr>
        <p:sp>
          <p:nvSpPr>
            <p:cNvPr id="655" name=""/>
            <p:cNvSpPr/>
            <p:nvPr/>
          </p:nvSpPr>
          <p:spPr>
            <a:xfrm>
              <a:off x="339840" y="4210200"/>
              <a:ext cx="1766880" cy="4557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20" y="314496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39840" y="3765600"/>
              <a:ext cx="1766880" cy="4586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417600" y="3843360"/>
              <a:ext cx="16714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ube Oil Condi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20" y="4049640"/>
              <a:ext cx="328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7920" y="4978440"/>
              <a:ext cx="277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1280" y="3333600"/>
              <a:ext cx="1766880" cy="45864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 txBox="1"/>
            <p:nvPr/>
          </p:nvSpPr>
          <p:spPr>
            <a:xfrm>
              <a:off x="487440" y="3429000"/>
              <a:ext cx="1440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ctrical T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20" y="3581280"/>
              <a:ext cx="328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9720" y="2884320"/>
              <a:ext cx="176688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>
              <a:off x="636480" y="3025800"/>
              <a:ext cx="10396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br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800" y="4362480"/>
              <a:ext cx="1766880" cy="455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2120" y="4514760"/>
              <a:ext cx="1766880" cy="455760"/>
            </a:xfrm>
            <a:prstGeom prst="rect">
              <a:avLst/>
            </a:prstGeom>
            <a:solidFill>
              <a:srgbClr val="ffb09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8440" y="4667400"/>
              <a:ext cx="1766880" cy="45576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803160" y="4749840"/>
              <a:ext cx="12384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rmograph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4200" y="4673520"/>
              <a:ext cx="27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7920" y="4826160"/>
              <a:ext cx="277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7360" y="4408560"/>
              <a:ext cx="27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569880" y="4516560"/>
              <a:ext cx="167148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ltrasonic Thicknes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506520" y="4351320"/>
              <a:ext cx="167148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ltrasonic Soun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442800" y="4186080"/>
              <a:ext cx="167148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ter Chemist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3160" y="4573440"/>
              <a:ext cx="277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7" name=""/>
          <p:cNvSpPr txBox="1"/>
          <p:nvPr/>
        </p:nvSpPr>
        <p:spPr>
          <a:xfrm>
            <a:off x="6610320" y="5856120"/>
            <a:ext cx="1482840" cy="61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MI /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468680" y="6437160"/>
            <a:ext cx="0" cy="303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262080" y="2209680"/>
            <a:ext cx="8548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TREND-File Import for Service Segments Version 1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TREND-File Export for Service Segments Version 1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VIB-File Import for Service Segments Version 1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VIB-File Export for Service Segments Version 1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TREND-SQL Server for Service Segments Version 1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VIB-SQL Server for Service Segments Version 1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0" y="266760"/>
            <a:ext cx="90676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Example:  One Vendor’s Current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MIMOSA Sup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262080" y="2209680"/>
            <a:ext cx="8548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Internet MIMOSA Home Page:</a:t>
            </a: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www.mimosa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Version 1.1 Production Specifications Are Available On the Web At No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Later Production Versions Will Be Available For A 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Specifications Under Development Are Available To All MIMOSA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685800" y="13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MIMOSA Open Spec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595440" y="1695600"/>
            <a:ext cx="8548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End-User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uppliers To Form All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re Outside Integrator &amp; Bear High Initial Costs Plus High Software Lifecycle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MIMOSA-Compliant Software Products for Future Integration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MIMOSA To Understand Enterprise Integration Issues  and Value of Multiple Technologies and Specify MIMOSA-Compliant Softwar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MIMOSA, Learn About Enterprise Integration Issues, Specify MIMOSA-Compliant Software Products, and Help Drive MIMOSA For Standards to Meet Your Company’s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685800" y="1396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The Importance of Your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595440" y="1695600"/>
            <a:ext cx="8548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  <a:ea typeface="AvantGarde Bk BT"/>
              </a:rPr>
              <a:t>Supplier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Join MIMOSA and Wait For Customers To Requ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MIMOSA To Learn about Enterprise Integration Issues and Value of Multipl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MIMOSA, Learn About Enterprise Integration Issues, and Then Help Drive Standards Which Incorporates the Data and Information Your Products Prov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685800" y="1396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The Importance of Your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111240" y="5514840"/>
            <a:ext cx="30132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Typical Plant-w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achinery Information System Communication Flow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95760" y="4896000"/>
            <a:ext cx="2416320" cy="17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232680" y="4965840"/>
            <a:ext cx="406800" cy="876600"/>
          </a:xfrm>
          <a:custGeom>
            <a:avLst/>
            <a:gdLst/>
            <a:ahLst/>
            <a:rect l="0" t="0" r="r" b="b"/>
            <a:pathLst>
              <a:path w="1130" h="2435">
                <a:moveTo>
                  <a:pt x="1130" y="1782"/>
                </a:moveTo>
                <a:lnTo>
                  <a:pt x="825" y="1782"/>
                </a:lnTo>
                <a:lnTo>
                  <a:pt x="825" y="0"/>
                </a:lnTo>
                <a:lnTo>
                  <a:pt x="300" y="0"/>
                </a:lnTo>
                <a:lnTo>
                  <a:pt x="300" y="1782"/>
                </a:lnTo>
                <a:lnTo>
                  <a:pt x="0" y="1782"/>
                </a:lnTo>
                <a:lnTo>
                  <a:pt x="565" y="2435"/>
                </a:lnTo>
                <a:lnTo>
                  <a:pt x="1130" y="178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580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73400" y="3216240"/>
            <a:ext cx="992520" cy="448200"/>
          </a:xfrm>
          <a:custGeom>
            <a:avLst/>
            <a:gdLst/>
            <a:ahLst/>
            <a:rect l="0" t="0" r="r" b="b"/>
            <a:pathLst>
              <a:path w="2757" h="1245">
                <a:moveTo>
                  <a:pt x="2016" y="0"/>
                </a:moveTo>
                <a:lnTo>
                  <a:pt x="2016" y="336"/>
                </a:lnTo>
                <a:lnTo>
                  <a:pt x="0" y="336"/>
                </a:lnTo>
                <a:lnTo>
                  <a:pt x="0" y="909"/>
                </a:lnTo>
                <a:lnTo>
                  <a:pt x="2016" y="909"/>
                </a:lnTo>
                <a:lnTo>
                  <a:pt x="2016" y="1245"/>
                </a:lnTo>
                <a:lnTo>
                  <a:pt x="2757" y="622"/>
                </a:lnTo>
                <a:lnTo>
                  <a:pt x="20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298600" y="3341520"/>
            <a:ext cx="1450800" cy="19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232080" y="3286080"/>
            <a:ext cx="515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211800" y="4829040"/>
            <a:ext cx="10303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560920" y="1274760"/>
            <a:ext cx="1187640" cy="402120"/>
          </a:xfrm>
          <a:custGeom>
            <a:avLst/>
            <a:gdLst/>
            <a:ahLst/>
            <a:rect l="0" t="0" r="r" b="b"/>
            <a:pathLst>
              <a:path w="3299" h="1117">
                <a:moveTo>
                  <a:pt x="2417" y="0"/>
                </a:moveTo>
                <a:lnTo>
                  <a:pt x="2417" y="300"/>
                </a:lnTo>
                <a:lnTo>
                  <a:pt x="0" y="300"/>
                </a:lnTo>
                <a:lnTo>
                  <a:pt x="0" y="812"/>
                </a:lnTo>
                <a:lnTo>
                  <a:pt x="2417" y="812"/>
                </a:lnTo>
                <a:lnTo>
                  <a:pt x="2417" y="1117"/>
                </a:lnTo>
                <a:lnTo>
                  <a:pt x="3299" y="561"/>
                </a:lnTo>
                <a:lnTo>
                  <a:pt x="241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379520" y="1384200"/>
            <a:ext cx="48704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98720" y="1380960"/>
            <a:ext cx="406800" cy="876600"/>
          </a:xfrm>
          <a:custGeom>
            <a:avLst/>
            <a:gdLst/>
            <a:ahLst/>
            <a:rect l="0" t="0" r="r" b="b"/>
            <a:pathLst>
              <a:path w="1130" h="2435">
                <a:moveTo>
                  <a:pt x="1130" y="1782"/>
                </a:moveTo>
                <a:lnTo>
                  <a:pt x="825" y="1782"/>
                </a:lnTo>
                <a:lnTo>
                  <a:pt x="825" y="0"/>
                </a:lnTo>
                <a:lnTo>
                  <a:pt x="300" y="0"/>
                </a:lnTo>
                <a:lnTo>
                  <a:pt x="300" y="1782"/>
                </a:lnTo>
                <a:lnTo>
                  <a:pt x="0" y="1782"/>
                </a:lnTo>
                <a:lnTo>
                  <a:pt x="565" y="2435"/>
                </a:lnTo>
                <a:lnTo>
                  <a:pt x="1130" y="178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38680" y="1380960"/>
            <a:ext cx="348120" cy="576720"/>
          </a:xfrm>
          <a:custGeom>
            <a:avLst/>
            <a:gdLst/>
            <a:ahLst/>
            <a:rect l="0" t="0" r="r" b="b"/>
            <a:pathLst>
              <a:path w="967" h="1602">
                <a:moveTo>
                  <a:pt x="967" y="1173"/>
                </a:moveTo>
                <a:lnTo>
                  <a:pt x="706" y="1173"/>
                </a:lnTo>
                <a:lnTo>
                  <a:pt x="706" y="0"/>
                </a:lnTo>
                <a:lnTo>
                  <a:pt x="256" y="0"/>
                </a:lnTo>
                <a:lnTo>
                  <a:pt x="256" y="1173"/>
                </a:lnTo>
                <a:lnTo>
                  <a:pt x="0" y="1173"/>
                </a:lnTo>
                <a:lnTo>
                  <a:pt x="486" y="1602"/>
                </a:lnTo>
                <a:lnTo>
                  <a:pt x="967" y="11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381560" y="5457960"/>
            <a:ext cx="24526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cess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43880" y="4584600"/>
            <a:ext cx="367200" cy="482760"/>
            <a:chOff x="7643880" y="4584600"/>
            <a:chExt cx="367200" cy="482760"/>
          </a:xfrm>
        </p:grpSpPr>
        <p:sp>
          <p:nvSpPr>
            <p:cNvPr id="693" name=""/>
            <p:cNvSpPr/>
            <p:nvPr/>
          </p:nvSpPr>
          <p:spPr>
            <a:xfrm>
              <a:off x="7643880" y="4584600"/>
              <a:ext cx="367200" cy="267120"/>
            </a:xfrm>
            <a:custGeom>
              <a:avLst/>
              <a:gdLst/>
              <a:ahLst/>
              <a:rect l="0" t="0" r="r" b="b"/>
              <a:pathLst>
                <a:path w="1020" h="742">
                  <a:moveTo>
                    <a:pt x="0" y="199"/>
                  </a:moveTo>
                  <a:lnTo>
                    <a:pt x="274" y="199"/>
                  </a:lnTo>
                  <a:lnTo>
                    <a:pt x="274" y="742"/>
                  </a:lnTo>
                  <a:lnTo>
                    <a:pt x="741" y="742"/>
                  </a:lnTo>
                  <a:lnTo>
                    <a:pt x="741" y="199"/>
                  </a:lnTo>
                  <a:lnTo>
                    <a:pt x="1020" y="199"/>
                  </a:lnTo>
                  <a:lnTo>
                    <a:pt x="508" y="0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2160" y="4637160"/>
              <a:ext cx="166680" cy="430200"/>
            </a:xfrm>
            <a:prstGeom prst="rect">
              <a:avLst/>
            </a:prstGeom>
            <a:solidFill>
              <a:srgbClr val="f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 txBox="1"/>
          <p:nvPr/>
        </p:nvSpPr>
        <p:spPr>
          <a:xfrm>
            <a:off x="2076480" y="1303200"/>
            <a:ext cx="33512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&amp; Service Segment Data  / Work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934320" y="304920"/>
            <a:ext cx="1752480" cy="45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934320" y="763560"/>
            <a:ext cx="1752480" cy="46044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878520" y="341280"/>
            <a:ext cx="1984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 Accoun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91480" y="792000"/>
            <a:ext cx="137484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Sched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7086600" y="0"/>
            <a:ext cx="13892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RP  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581280" y="5848200"/>
            <a:ext cx="157644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53040" y="5848200"/>
            <a:ext cx="1474920" cy="61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5383080" y="5902200"/>
            <a:ext cx="9828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isto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" y="343080"/>
            <a:ext cx="1752480" cy="9144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38120" y="0"/>
            <a:ext cx="19749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duct Eng.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57200" y="343080"/>
            <a:ext cx="1752480" cy="4572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20840" y="360360"/>
            <a:ext cx="1984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eering 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8640" y="798480"/>
            <a:ext cx="1984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 Configuration Mana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666960" y="5931000"/>
            <a:ext cx="1276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CS, PLC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424720" y="1219320"/>
            <a:ext cx="390960" cy="617760"/>
          </a:xfrm>
          <a:custGeom>
            <a:avLst/>
            <a:gdLst/>
            <a:ahLst/>
            <a:rect l="0" t="0" r="r" b="b"/>
            <a:pathLst>
              <a:path w="1086" h="1716">
                <a:moveTo>
                  <a:pt x="0" y="458"/>
                </a:moveTo>
                <a:lnTo>
                  <a:pt x="292" y="458"/>
                </a:lnTo>
                <a:lnTo>
                  <a:pt x="292" y="1716"/>
                </a:lnTo>
                <a:lnTo>
                  <a:pt x="794" y="1716"/>
                </a:lnTo>
                <a:lnTo>
                  <a:pt x="794" y="458"/>
                </a:lnTo>
                <a:lnTo>
                  <a:pt x="1086" y="458"/>
                </a:lnTo>
                <a:lnTo>
                  <a:pt x="543" y="0"/>
                </a:lnTo>
                <a:lnTo>
                  <a:pt x="0" y="45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530520" y="4741920"/>
            <a:ext cx="204840" cy="104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54280" y="4638600"/>
            <a:ext cx="617760" cy="390960"/>
          </a:xfrm>
          <a:custGeom>
            <a:avLst/>
            <a:gdLst/>
            <a:ahLst/>
            <a:rect l="0" t="0" r="r" b="b"/>
            <a:pathLst>
              <a:path w="1716" h="1086">
                <a:moveTo>
                  <a:pt x="1257" y="0"/>
                </a:moveTo>
                <a:lnTo>
                  <a:pt x="1257" y="292"/>
                </a:lnTo>
                <a:lnTo>
                  <a:pt x="0" y="292"/>
                </a:lnTo>
                <a:lnTo>
                  <a:pt x="0" y="794"/>
                </a:lnTo>
                <a:lnTo>
                  <a:pt x="1257" y="794"/>
                </a:lnTo>
                <a:lnTo>
                  <a:pt x="1257" y="1086"/>
                </a:lnTo>
                <a:lnTo>
                  <a:pt x="1716" y="543"/>
                </a:lnTo>
                <a:lnTo>
                  <a:pt x="12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505320" y="4651200"/>
            <a:ext cx="515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7996320" y="6550200"/>
            <a:ext cx="10000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valon"/>
                <a:ea typeface="Avalon"/>
              </a:rPr>
              <a:t>Sept.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898800" y="6448320"/>
            <a:ext cx="965160" cy="311400"/>
            <a:chOff x="3898800" y="6448320"/>
            <a:chExt cx="965160" cy="311400"/>
          </a:xfrm>
        </p:grpSpPr>
        <p:sp>
          <p:nvSpPr>
            <p:cNvPr id="716" name=""/>
            <p:cNvSpPr/>
            <p:nvPr/>
          </p:nvSpPr>
          <p:spPr>
            <a:xfrm flipV="1">
              <a:off x="3898800" y="644832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194000" y="645624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494240" y="644832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863960" y="644832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"/>
          <p:cNvSpPr txBox="1"/>
          <p:nvPr/>
        </p:nvSpPr>
        <p:spPr>
          <a:xfrm>
            <a:off x="0" y="2433600"/>
            <a:ext cx="28465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dition Monitoring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920" y="2884320"/>
            <a:ext cx="2327400" cy="2238840"/>
            <a:chOff x="7920" y="2884320"/>
            <a:chExt cx="2327400" cy="2238840"/>
          </a:xfrm>
        </p:grpSpPr>
        <p:sp>
          <p:nvSpPr>
            <p:cNvPr id="722" name=""/>
            <p:cNvSpPr/>
            <p:nvPr/>
          </p:nvSpPr>
          <p:spPr>
            <a:xfrm>
              <a:off x="339840" y="4210200"/>
              <a:ext cx="1766880" cy="4557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20" y="314496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9840" y="3765600"/>
              <a:ext cx="1766880" cy="4586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417600" y="3843360"/>
              <a:ext cx="16714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ube Oil Condi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20" y="4049640"/>
              <a:ext cx="328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7920" y="4978440"/>
              <a:ext cx="277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1280" y="3333600"/>
              <a:ext cx="1766880" cy="45864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487440" y="3429000"/>
              <a:ext cx="1440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ctrical T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20" y="3581280"/>
              <a:ext cx="328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9720" y="2884320"/>
              <a:ext cx="176688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636480" y="3025800"/>
              <a:ext cx="10396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br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15800" y="4362480"/>
              <a:ext cx="1766880" cy="455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2120" y="4514760"/>
              <a:ext cx="1766880" cy="455760"/>
            </a:xfrm>
            <a:prstGeom prst="rect">
              <a:avLst/>
            </a:prstGeom>
            <a:solidFill>
              <a:srgbClr val="ffb09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8440" y="4667400"/>
              <a:ext cx="1766880" cy="45576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803160" y="4749840"/>
              <a:ext cx="12384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rmograph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4200" y="4673520"/>
              <a:ext cx="27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7920" y="4826160"/>
              <a:ext cx="277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7360" y="4408560"/>
              <a:ext cx="27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569880" y="4516560"/>
              <a:ext cx="167148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ltrasonic Thicknes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506520" y="4351320"/>
              <a:ext cx="167148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ltrasonic Soun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442800" y="4186080"/>
              <a:ext cx="167148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ter Chemist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3160" y="4573440"/>
              <a:ext cx="277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170240" y="2459160"/>
            <a:ext cx="1305000" cy="2676600"/>
            <a:chOff x="4170240" y="2459160"/>
            <a:chExt cx="1305000" cy="2676600"/>
          </a:xfrm>
        </p:grpSpPr>
        <p:sp>
          <p:nvSpPr>
            <p:cNvPr id="745" name=""/>
            <p:cNvSpPr txBox="1"/>
            <p:nvPr/>
          </p:nvSpPr>
          <p:spPr>
            <a:xfrm>
              <a:off x="4170240" y="4238640"/>
              <a:ext cx="1295280" cy="44928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ability &amp; RC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ud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4170240" y="4683240"/>
              <a:ext cx="1295280" cy="45252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fiency 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4179960" y="2459160"/>
              <a:ext cx="1295280" cy="45252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agnostics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alth 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4179960" y="2901960"/>
              <a:ext cx="1295280" cy="45720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dition-ba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t.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4179960" y="3348000"/>
              <a:ext cx="1285920" cy="44928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gh-tech. 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ODS, Recip.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4170240" y="3787920"/>
              <a:ext cx="1295280" cy="46512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ot Ca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7008840" y="1827360"/>
            <a:ext cx="1752480" cy="2759040"/>
            <a:chOff x="7008840" y="1827360"/>
            <a:chExt cx="1752480" cy="2759040"/>
          </a:xfrm>
        </p:grpSpPr>
        <p:sp>
          <p:nvSpPr>
            <p:cNvPr id="752" name=""/>
            <p:cNvSpPr txBox="1"/>
            <p:nvPr/>
          </p:nvSpPr>
          <p:spPr>
            <a:xfrm>
              <a:off x="7008840" y="412596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tenance C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coun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7008840" y="366228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ol &amp; Re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ipment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7008840" y="320040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s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7008840" y="273996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tenance 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 txBox="1"/>
            <p:nvPr/>
          </p:nvSpPr>
          <p:spPr>
            <a:xfrm>
              <a:off x="7008840" y="227952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ventive Mainten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hedules (Time or 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7008840" y="182736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al Location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et Hierarchy Regis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 txBox="1"/>
          <p:nvPr/>
        </p:nvSpPr>
        <p:spPr>
          <a:xfrm>
            <a:off x="6861240" y="1301760"/>
            <a:ext cx="18525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inte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610320" y="5856120"/>
            <a:ext cx="1482840" cy="61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MI /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3544920" y="1895400"/>
            <a:ext cx="257508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sset Health, Reliability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amp; Optimization 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111240" y="5514840"/>
            <a:ext cx="24987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IMOSA O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ystems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xchang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508720" y="5035680"/>
            <a:ext cx="2416320" cy="17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17880" y="2738520"/>
            <a:ext cx="736560" cy="22683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2046240" y="3362400"/>
            <a:ext cx="94284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M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578640" y="1828800"/>
            <a:ext cx="1955880" cy="285768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32680" y="5054760"/>
            <a:ext cx="406800" cy="622800"/>
          </a:xfrm>
          <a:custGeom>
            <a:avLst/>
            <a:gdLst/>
            <a:ahLst/>
            <a:rect l="0" t="0" r="r" b="b"/>
            <a:pathLst>
              <a:path w="1130" h="1730">
                <a:moveTo>
                  <a:pt x="1130" y="1266"/>
                </a:moveTo>
                <a:lnTo>
                  <a:pt x="825" y="1266"/>
                </a:lnTo>
                <a:lnTo>
                  <a:pt x="825" y="0"/>
                </a:lnTo>
                <a:lnTo>
                  <a:pt x="300" y="0"/>
                </a:lnTo>
                <a:lnTo>
                  <a:pt x="300" y="1266"/>
                </a:lnTo>
                <a:lnTo>
                  <a:pt x="0" y="1266"/>
                </a:lnTo>
                <a:lnTo>
                  <a:pt x="565" y="1730"/>
                </a:lnTo>
                <a:lnTo>
                  <a:pt x="1130" y="126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881440" y="2746440"/>
            <a:ext cx="1041840" cy="397080"/>
            <a:chOff x="2881440" y="2746440"/>
            <a:chExt cx="1041840" cy="397080"/>
          </a:xfrm>
        </p:grpSpPr>
        <p:sp>
          <p:nvSpPr>
            <p:cNvPr id="768" name=""/>
            <p:cNvSpPr/>
            <p:nvPr/>
          </p:nvSpPr>
          <p:spPr>
            <a:xfrm>
              <a:off x="3413160" y="2746440"/>
              <a:ext cx="510120" cy="397080"/>
            </a:xfrm>
            <a:custGeom>
              <a:avLst/>
              <a:gdLst/>
              <a:ahLst/>
              <a:rect l="0" t="0" r="r" b="b"/>
              <a:pathLst>
                <a:path w="1417" h="1103">
                  <a:moveTo>
                    <a:pt x="1037" y="0"/>
                  </a:moveTo>
                  <a:lnTo>
                    <a:pt x="1037" y="295"/>
                  </a:lnTo>
                  <a:lnTo>
                    <a:pt x="0" y="295"/>
                  </a:lnTo>
                  <a:lnTo>
                    <a:pt x="0" y="807"/>
                  </a:lnTo>
                  <a:lnTo>
                    <a:pt x="1037" y="807"/>
                  </a:lnTo>
                  <a:lnTo>
                    <a:pt x="1037" y="1103"/>
                  </a:lnTo>
                  <a:lnTo>
                    <a:pt x="1417" y="552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81440" y="2852640"/>
              <a:ext cx="946080" cy="184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956040" y="2428920"/>
            <a:ext cx="1758960" cy="2917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8143920" y="6586560"/>
            <a:ext cx="10000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Avalon"/>
                <a:ea typeface="Avalon"/>
              </a:rPr>
              <a:t>Sept.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838600" y="2784600"/>
            <a:ext cx="914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6057720" y="3029040"/>
            <a:ext cx="92376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IM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45160" y="1295280"/>
            <a:ext cx="984600" cy="367200"/>
          </a:xfrm>
          <a:custGeom>
            <a:avLst/>
            <a:gdLst/>
            <a:ahLst/>
            <a:rect l="0" t="0" r="r" b="b"/>
            <a:pathLst>
              <a:path w="2735" h="1020">
                <a:moveTo>
                  <a:pt x="2003" y="0"/>
                </a:moveTo>
                <a:lnTo>
                  <a:pt x="2003" y="274"/>
                </a:lnTo>
                <a:lnTo>
                  <a:pt x="0" y="274"/>
                </a:lnTo>
                <a:lnTo>
                  <a:pt x="0" y="741"/>
                </a:lnTo>
                <a:lnTo>
                  <a:pt x="2003" y="741"/>
                </a:lnTo>
                <a:lnTo>
                  <a:pt x="2003" y="1020"/>
                </a:lnTo>
                <a:lnTo>
                  <a:pt x="2735" y="512"/>
                </a:lnTo>
                <a:lnTo>
                  <a:pt x="200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379520" y="1371600"/>
            <a:ext cx="5021280" cy="192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098720" y="1380960"/>
            <a:ext cx="406800" cy="876600"/>
          </a:xfrm>
          <a:custGeom>
            <a:avLst/>
            <a:gdLst/>
            <a:ahLst/>
            <a:rect l="0" t="0" r="r" b="b"/>
            <a:pathLst>
              <a:path w="1130" h="2435">
                <a:moveTo>
                  <a:pt x="1130" y="1782"/>
                </a:moveTo>
                <a:lnTo>
                  <a:pt x="825" y="1782"/>
                </a:lnTo>
                <a:lnTo>
                  <a:pt x="825" y="0"/>
                </a:lnTo>
                <a:lnTo>
                  <a:pt x="300" y="0"/>
                </a:lnTo>
                <a:lnTo>
                  <a:pt x="300" y="1782"/>
                </a:lnTo>
                <a:lnTo>
                  <a:pt x="0" y="1782"/>
                </a:lnTo>
                <a:lnTo>
                  <a:pt x="565" y="2435"/>
                </a:lnTo>
                <a:lnTo>
                  <a:pt x="1130" y="178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738680" y="1380960"/>
            <a:ext cx="348120" cy="576720"/>
          </a:xfrm>
          <a:custGeom>
            <a:avLst/>
            <a:gdLst/>
            <a:ahLst/>
            <a:rect l="0" t="0" r="r" b="b"/>
            <a:pathLst>
              <a:path w="967" h="1602">
                <a:moveTo>
                  <a:pt x="967" y="1173"/>
                </a:moveTo>
                <a:lnTo>
                  <a:pt x="706" y="1173"/>
                </a:lnTo>
                <a:lnTo>
                  <a:pt x="706" y="0"/>
                </a:lnTo>
                <a:lnTo>
                  <a:pt x="256" y="0"/>
                </a:lnTo>
                <a:lnTo>
                  <a:pt x="256" y="1173"/>
                </a:lnTo>
                <a:lnTo>
                  <a:pt x="0" y="1173"/>
                </a:lnTo>
                <a:lnTo>
                  <a:pt x="486" y="1602"/>
                </a:lnTo>
                <a:lnTo>
                  <a:pt x="967" y="11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924360" y="5381640"/>
            <a:ext cx="24526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cess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643880" y="4673520"/>
            <a:ext cx="379800" cy="520920"/>
            <a:chOff x="7643880" y="4673520"/>
            <a:chExt cx="379800" cy="520920"/>
          </a:xfrm>
        </p:grpSpPr>
        <p:sp>
          <p:nvSpPr>
            <p:cNvPr id="781" name=""/>
            <p:cNvSpPr/>
            <p:nvPr/>
          </p:nvSpPr>
          <p:spPr>
            <a:xfrm>
              <a:off x="7643880" y="4673520"/>
              <a:ext cx="379800" cy="287640"/>
            </a:xfrm>
            <a:custGeom>
              <a:avLst/>
              <a:gdLst/>
              <a:ahLst/>
              <a:rect l="0" t="0" r="r" b="b"/>
              <a:pathLst>
                <a:path w="1055" h="799">
                  <a:moveTo>
                    <a:pt x="0" y="216"/>
                  </a:moveTo>
                  <a:lnTo>
                    <a:pt x="283" y="216"/>
                  </a:lnTo>
                  <a:lnTo>
                    <a:pt x="283" y="799"/>
                  </a:lnTo>
                  <a:lnTo>
                    <a:pt x="768" y="799"/>
                  </a:lnTo>
                  <a:lnTo>
                    <a:pt x="768" y="216"/>
                  </a:lnTo>
                  <a:lnTo>
                    <a:pt x="1055" y="216"/>
                  </a:lnTo>
                  <a:lnTo>
                    <a:pt x="525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5400" y="4730760"/>
              <a:ext cx="173160" cy="463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 txBox="1"/>
          <p:nvPr/>
        </p:nvSpPr>
        <p:spPr>
          <a:xfrm>
            <a:off x="6211800" y="4664160"/>
            <a:ext cx="10303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1793880" y="1303200"/>
            <a:ext cx="4334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&amp; Service Segment Information / Work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558120" y="344520"/>
            <a:ext cx="1752480" cy="4586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58120" y="803160"/>
            <a:ext cx="1752480" cy="46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6502320" y="380880"/>
            <a:ext cx="1984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 Accoun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514920" y="831960"/>
            <a:ext cx="137484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Sched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710400" y="39600"/>
            <a:ext cx="13892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RP  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" y="343080"/>
            <a:ext cx="1752480" cy="9144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38120" y="0"/>
            <a:ext cx="19749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duct Eng.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57200" y="343080"/>
            <a:ext cx="1752480" cy="4572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20840" y="360360"/>
            <a:ext cx="1984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eering 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8640" y="798480"/>
            <a:ext cx="1984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 Configuration Mana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195640" y="338040"/>
            <a:ext cx="411120" cy="928800"/>
          </a:xfrm>
          <a:prstGeom prst="rect">
            <a:avLst/>
          </a:prstGeom>
          <a:solidFill>
            <a:srgbClr val="ff99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084400" y="676440"/>
            <a:ext cx="6382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119400" y="866880"/>
            <a:ext cx="348120" cy="481320"/>
          </a:xfrm>
          <a:custGeom>
            <a:avLst/>
            <a:gdLst/>
            <a:ahLst/>
            <a:rect l="0" t="0" r="r" b="b"/>
            <a:pathLst>
              <a:path w="967" h="1337">
                <a:moveTo>
                  <a:pt x="967" y="979"/>
                </a:moveTo>
                <a:lnTo>
                  <a:pt x="706" y="979"/>
                </a:lnTo>
                <a:lnTo>
                  <a:pt x="706" y="0"/>
                </a:lnTo>
                <a:lnTo>
                  <a:pt x="256" y="0"/>
                </a:lnTo>
                <a:lnTo>
                  <a:pt x="256" y="979"/>
                </a:lnTo>
                <a:lnTo>
                  <a:pt x="0" y="979"/>
                </a:lnTo>
                <a:lnTo>
                  <a:pt x="486" y="1337"/>
                </a:lnTo>
                <a:lnTo>
                  <a:pt x="967" y="9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048120" y="704880"/>
            <a:ext cx="324000" cy="17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95600" y="338040"/>
            <a:ext cx="411120" cy="928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273880" y="353880"/>
            <a:ext cx="411120" cy="90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2954160" y="228600"/>
            <a:ext cx="12398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IMOSA ST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ate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346560" y="5943600"/>
            <a:ext cx="1779480" cy="235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352680" y="5904000"/>
            <a:ext cx="1838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C V1 Serv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46560" y="6165720"/>
            <a:ext cx="1689120" cy="587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946760" y="6165720"/>
            <a:ext cx="1635120" cy="587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5222880" y="6273720"/>
            <a:ext cx="9828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isto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946760" y="5943600"/>
            <a:ext cx="1636560" cy="235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5076720" y="5923080"/>
            <a:ext cx="1638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C V2 Serv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618000" y="6203880"/>
            <a:ext cx="1276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CS, PLC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344760" y="5673600"/>
            <a:ext cx="3235320" cy="27792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192560" y="5716440"/>
            <a:ext cx="18162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MOSA OPC Gate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380440" y="1290600"/>
            <a:ext cx="390960" cy="545040"/>
          </a:xfrm>
          <a:custGeom>
            <a:avLst/>
            <a:gdLst/>
            <a:ahLst/>
            <a:rect l="0" t="0" r="r" b="b"/>
            <a:pathLst>
              <a:path w="1086" h="1514">
                <a:moveTo>
                  <a:pt x="0" y="406"/>
                </a:moveTo>
                <a:lnTo>
                  <a:pt x="292" y="406"/>
                </a:lnTo>
                <a:lnTo>
                  <a:pt x="292" y="1514"/>
                </a:lnTo>
                <a:lnTo>
                  <a:pt x="794" y="1514"/>
                </a:lnTo>
                <a:lnTo>
                  <a:pt x="794" y="406"/>
                </a:lnTo>
                <a:lnTo>
                  <a:pt x="1086" y="406"/>
                </a:lnTo>
                <a:lnTo>
                  <a:pt x="543" y="0"/>
                </a:lnTo>
                <a:lnTo>
                  <a:pt x="0" y="4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8178840" y="754200"/>
            <a:ext cx="6382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A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298680" y="4586400"/>
            <a:ext cx="208080" cy="104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325680" y="4483080"/>
            <a:ext cx="617760" cy="390960"/>
          </a:xfrm>
          <a:custGeom>
            <a:avLst/>
            <a:gdLst/>
            <a:ahLst/>
            <a:rect l="0" t="0" r="r" b="b"/>
            <a:pathLst>
              <a:path w="1716" h="1086">
                <a:moveTo>
                  <a:pt x="1257" y="0"/>
                </a:moveTo>
                <a:lnTo>
                  <a:pt x="1257" y="292"/>
                </a:lnTo>
                <a:lnTo>
                  <a:pt x="0" y="292"/>
                </a:lnTo>
                <a:lnTo>
                  <a:pt x="0" y="794"/>
                </a:lnTo>
                <a:lnTo>
                  <a:pt x="1257" y="794"/>
                </a:lnTo>
                <a:lnTo>
                  <a:pt x="1257" y="1086"/>
                </a:lnTo>
                <a:lnTo>
                  <a:pt x="1716" y="543"/>
                </a:lnTo>
                <a:lnTo>
                  <a:pt x="12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3276720" y="4495680"/>
            <a:ext cx="515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4208400" y="2535120"/>
            <a:ext cx="1305000" cy="2676600"/>
            <a:chOff x="4208400" y="2535120"/>
            <a:chExt cx="1305000" cy="2676600"/>
          </a:xfrm>
        </p:grpSpPr>
        <p:sp>
          <p:nvSpPr>
            <p:cNvPr id="818" name=""/>
            <p:cNvSpPr txBox="1"/>
            <p:nvPr/>
          </p:nvSpPr>
          <p:spPr>
            <a:xfrm>
              <a:off x="4208400" y="4314960"/>
              <a:ext cx="1295280" cy="44928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ability &amp; RC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ud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>
              <a:off x="4208400" y="4759200"/>
              <a:ext cx="1295280" cy="45252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fiency 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4218120" y="2535120"/>
              <a:ext cx="1295280" cy="45252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agnostics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alth 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4218120" y="2978280"/>
              <a:ext cx="1295280" cy="45720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dition-ba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t.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>
              <a:off x="4218120" y="3424320"/>
              <a:ext cx="1285920" cy="44928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gh-tech. 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ODS, Recip.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4208400" y="3863880"/>
              <a:ext cx="1295280" cy="465120"/>
            </a:xfrm>
            <a:prstGeom prst="rect">
              <a:avLst/>
            </a:prstGeom>
            <a:solidFill>
              <a:srgbClr val="ffbbc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ot Ca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 txBox="1"/>
          <p:nvPr/>
        </p:nvSpPr>
        <p:spPr>
          <a:xfrm>
            <a:off x="6784920" y="1314360"/>
            <a:ext cx="18525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inte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7008840" y="1827360"/>
            <a:ext cx="1752480" cy="2759040"/>
            <a:chOff x="7008840" y="1827360"/>
            <a:chExt cx="1752480" cy="2759040"/>
          </a:xfrm>
        </p:grpSpPr>
        <p:sp>
          <p:nvSpPr>
            <p:cNvPr id="826" name=""/>
            <p:cNvSpPr txBox="1"/>
            <p:nvPr/>
          </p:nvSpPr>
          <p:spPr>
            <a:xfrm>
              <a:off x="7008840" y="412596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tenance C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coun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 txBox="1"/>
            <p:nvPr/>
          </p:nvSpPr>
          <p:spPr>
            <a:xfrm>
              <a:off x="7008840" y="366228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ol &amp; Re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ipment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>
              <a:off x="7008840" y="320040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s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 txBox="1"/>
            <p:nvPr/>
          </p:nvSpPr>
          <p:spPr>
            <a:xfrm>
              <a:off x="7008840" y="273996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tenance 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 txBox="1"/>
            <p:nvPr/>
          </p:nvSpPr>
          <p:spPr>
            <a:xfrm>
              <a:off x="7008840" y="227952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ventive Mainten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hedules (Time or 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 txBox="1"/>
            <p:nvPr/>
          </p:nvSpPr>
          <p:spPr>
            <a:xfrm>
              <a:off x="7008840" y="1827360"/>
              <a:ext cx="1752480" cy="4604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al Location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et Hierarchy Regis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"/>
          <p:cNvSpPr txBox="1"/>
          <p:nvPr/>
        </p:nvSpPr>
        <p:spPr>
          <a:xfrm>
            <a:off x="291960" y="2319480"/>
            <a:ext cx="26305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dition Monitoring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7920" y="2757600"/>
            <a:ext cx="2327400" cy="2238480"/>
            <a:chOff x="7920" y="2757600"/>
            <a:chExt cx="2327400" cy="2238480"/>
          </a:xfrm>
        </p:grpSpPr>
        <p:sp>
          <p:nvSpPr>
            <p:cNvPr id="834" name=""/>
            <p:cNvSpPr/>
            <p:nvPr/>
          </p:nvSpPr>
          <p:spPr>
            <a:xfrm>
              <a:off x="339840" y="4083120"/>
              <a:ext cx="1766880" cy="4557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20" y="301788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9840" y="3638520"/>
              <a:ext cx="1766880" cy="4586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417600" y="3716280"/>
              <a:ext cx="16714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ube Oil Condi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920" y="3922560"/>
              <a:ext cx="328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77920" y="4851360"/>
              <a:ext cx="277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1280" y="3206880"/>
              <a:ext cx="1766880" cy="45864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487440" y="3301920"/>
              <a:ext cx="1440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ctrical T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920" y="3454560"/>
              <a:ext cx="328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69720" y="2757600"/>
              <a:ext cx="176688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 txBox="1"/>
            <p:nvPr/>
          </p:nvSpPr>
          <p:spPr>
            <a:xfrm>
              <a:off x="636480" y="2898720"/>
              <a:ext cx="10396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br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800" y="4235400"/>
              <a:ext cx="1766880" cy="455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92120" y="4387680"/>
              <a:ext cx="1766880" cy="455760"/>
            </a:xfrm>
            <a:prstGeom prst="rect">
              <a:avLst/>
            </a:prstGeom>
            <a:solidFill>
              <a:srgbClr val="ffb09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8440" y="4540320"/>
              <a:ext cx="1766880" cy="45576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 txBox="1"/>
            <p:nvPr/>
          </p:nvSpPr>
          <p:spPr>
            <a:xfrm>
              <a:off x="803160" y="4622760"/>
              <a:ext cx="12384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rmograph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4200" y="4546440"/>
              <a:ext cx="27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7920" y="4699080"/>
              <a:ext cx="277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7360" y="4281480"/>
              <a:ext cx="27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569880" y="4389480"/>
              <a:ext cx="167148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ltrasonic Thicknes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506520" y="4224240"/>
              <a:ext cx="167148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ltrasonic Soun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442800" y="4059360"/>
              <a:ext cx="167148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ter Chemist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3160" y="4446720"/>
              <a:ext cx="277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"/>
          <p:cNvSpPr txBox="1"/>
          <p:nvPr/>
        </p:nvSpPr>
        <p:spPr>
          <a:xfrm>
            <a:off x="6562800" y="6161040"/>
            <a:ext cx="1463760" cy="588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MI /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092400" y="6664320"/>
            <a:ext cx="303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084480" y="6502320"/>
            <a:ext cx="303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92400" y="6297480"/>
            <a:ext cx="303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3608280" y="1882800"/>
            <a:ext cx="257508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sset Health, Reliability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amp; Optimization 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2428920" y="4452840"/>
            <a:ext cx="1447920" cy="304920"/>
          </a:xfrm>
          <a:prstGeom prst="ellipse">
            <a:avLst/>
          </a:prstGeom>
          <a:solidFill>
            <a:srgbClr val="00dfc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428920" y="4627440"/>
            <a:ext cx="0" cy="86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76840" y="4653000"/>
            <a:ext cx="0" cy="79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428920" y="5367240"/>
            <a:ext cx="1447920" cy="3049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2575080" y="4707000"/>
            <a:ext cx="1189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191040" y="4276800"/>
            <a:ext cx="0" cy="276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5748480" y="428148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062680" y="4457880"/>
            <a:ext cx="1447920" cy="304920"/>
          </a:xfrm>
          <a:prstGeom prst="ellipse">
            <a:avLst/>
          </a:prstGeom>
          <a:solidFill>
            <a:srgbClr val="00dfc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00480" y="4695840"/>
            <a:ext cx="0" cy="75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485040" y="4645080"/>
            <a:ext cx="0" cy="83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062680" y="5372280"/>
            <a:ext cx="1447920" cy="3049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5214960" y="4711680"/>
            <a:ext cx="11764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85960" y="3309840"/>
            <a:ext cx="772488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85960" y="3843360"/>
            <a:ext cx="772488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089080" y="3232080"/>
            <a:ext cx="4348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957240" y="3879720"/>
            <a:ext cx="7643880" cy="393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Common Relational Information Schema (CRIS) Vers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2168640" y="3408480"/>
            <a:ext cx="54705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Site Zero Databa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888840" y="2776680"/>
            <a:ext cx="191772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Export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D) File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795240" y="0"/>
            <a:ext cx="781524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ffff00"/>
                </a:solidFill>
                <a:latin typeface="Book Antiqua"/>
                <a:ea typeface="Book Antiqua"/>
              </a:rPr>
              <a:t>MIMOSA Architecture on a Page</a:t>
            </a: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42920" y="4357800"/>
            <a:ext cx="333360" cy="333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52280" y="4772160"/>
            <a:ext cx="333360" cy="333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52280" y="6081840"/>
            <a:ext cx="33336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26960" y="4432320"/>
            <a:ext cx="2063880" cy="20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P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Be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Dra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Design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52280" y="5224320"/>
            <a:ext cx="333360" cy="333360"/>
          </a:xfrm>
          <a:prstGeom prst="rect">
            <a:avLst/>
          </a:prstGeom>
          <a:solidFill>
            <a:srgbClr val="e95f6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656400" y="2779560"/>
            <a:ext cx="195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Busines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BO)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38240" y="5638680"/>
            <a:ext cx="333360" cy="33336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718160" y="2776680"/>
            <a:ext cx="1952640" cy="533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SQL/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727520" y="1235160"/>
            <a:ext cx="1943280" cy="534960"/>
          </a:xfrm>
          <a:prstGeom prst="rect">
            <a:avLst/>
          </a:prstGeom>
          <a:solidFill>
            <a:srgbClr val="ef899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NTEGR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451560" y="4792680"/>
            <a:ext cx="269244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ech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TREND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Static Value Trends/Alarm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VIB (Vibration/Sound/Dynamic D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SAMPLE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Oil/Fluid/Gas/Solid Tes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THERM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Thermograph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REG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Asset Register Manage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DIAG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Diagnostics / Recommend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REL 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(Reliability / D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WORK (Work Manage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895320" y="2260440"/>
            <a:ext cx="965160" cy="522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m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847880" y="2260440"/>
            <a:ext cx="965160" cy="522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Ex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2813040" y="2260440"/>
            <a:ext cx="965160" cy="52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m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765600" y="2260440"/>
            <a:ext cx="965160" cy="52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Ex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730760" y="2260440"/>
            <a:ext cx="965160" cy="522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5686560" y="2270160"/>
            <a:ext cx="1003320" cy="522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er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670800" y="2276640"/>
            <a:ext cx="965160" cy="52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7613640" y="2266920"/>
            <a:ext cx="993600" cy="52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2774880" y="2776680"/>
            <a:ext cx="19526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Bulk Dat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BD) File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556080" y="5562720"/>
            <a:ext cx="2962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ateg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Service Segments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Functional Loc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Assets</a:t>
            </a:r>
            <a:r>
              <a:rPr b="0" i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(Serialized Equip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Ordered Lists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 (Routes, etc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Solution Packs</a:t>
            </a:r>
            <a:r>
              <a:rPr b="0" lang="en-US" sz="1200" spc="-1" strike="noStrike">
                <a:solidFill>
                  <a:srgbClr val="ef899a"/>
                </a:solidFill>
                <a:latin typeface="Arial"/>
                <a:ea typeface="Arial"/>
              </a:rPr>
              <a:t> (Pre-planne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730760" y="730080"/>
            <a:ext cx="194328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88272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m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183528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Ex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80044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m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375300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Ex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718160" y="175248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5673600" y="1762200"/>
            <a:ext cx="100332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er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6657840" y="1768320"/>
            <a:ext cx="96516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7601040" y="1758960"/>
            <a:ext cx="993600" cy="522360"/>
          </a:xfrm>
          <a:prstGeom prst="rect">
            <a:avLst/>
          </a:prstGeom>
          <a:solidFill>
            <a:srgbClr val="c3ff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-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f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 flipV="1">
            <a:off x="5748480" y="4260960"/>
            <a:ext cx="0" cy="387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885960" y="3843360"/>
            <a:ext cx="772488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089080" y="3232080"/>
            <a:ext cx="4348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957240" y="3879720"/>
            <a:ext cx="70722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OSA Common Relational Information Schema (C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766800" y="0"/>
            <a:ext cx="781524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MIMOSA Architecture</a:t>
            </a:r>
            <a:r>
              <a:rPr b="1" i="1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2920" y="4357800"/>
            <a:ext cx="333360" cy="3333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52280" y="4772160"/>
            <a:ext cx="333360" cy="3333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26960" y="4429080"/>
            <a:ext cx="25621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 A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ndor B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MOSA Suppl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52280" y="5224320"/>
            <a:ext cx="333360" cy="333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14440" y="4624560"/>
            <a:ext cx="1447920" cy="933480"/>
            <a:chOff x="2314440" y="4624560"/>
            <a:chExt cx="1447920" cy="933480"/>
          </a:xfrm>
        </p:grpSpPr>
        <p:sp>
          <p:nvSpPr>
            <p:cNvPr id="919" name=""/>
            <p:cNvSpPr/>
            <p:nvPr/>
          </p:nvSpPr>
          <p:spPr>
            <a:xfrm>
              <a:off x="2333520" y="5253120"/>
              <a:ext cx="1409760" cy="304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 txBox="1"/>
            <p:nvPr/>
          </p:nvSpPr>
          <p:spPr>
            <a:xfrm>
              <a:off x="2344680" y="4687920"/>
              <a:ext cx="1400040" cy="69840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ndor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14440" y="4624560"/>
              <a:ext cx="1447920" cy="171360"/>
            </a:xfrm>
            <a:prstGeom prst="ellipse">
              <a:avLst/>
            </a:prstGeom>
            <a:solidFill>
              <a:srgbClr val="00dfca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 flipV="1">
            <a:off x="3062160" y="430056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5057640" y="4643280"/>
            <a:ext cx="1447920" cy="933840"/>
            <a:chOff x="5057640" y="4643280"/>
            <a:chExt cx="1447920" cy="933840"/>
          </a:xfrm>
        </p:grpSpPr>
        <p:sp>
          <p:nvSpPr>
            <p:cNvPr id="924" name=""/>
            <p:cNvSpPr/>
            <p:nvPr/>
          </p:nvSpPr>
          <p:spPr>
            <a:xfrm>
              <a:off x="5076720" y="5272200"/>
              <a:ext cx="1409760" cy="304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 txBox="1"/>
            <p:nvPr/>
          </p:nvSpPr>
          <p:spPr>
            <a:xfrm>
              <a:off x="5087880" y="4707000"/>
              <a:ext cx="1400040" cy="698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ndor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057640" y="4643280"/>
              <a:ext cx="1447920" cy="17136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960560" y="1768320"/>
            <a:ext cx="287640" cy="570240"/>
          </a:xfrm>
          <a:custGeom>
            <a:avLst/>
            <a:gdLst/>
            <a:ahLst/>
            <a:rect l="0" t="0" r="r" b="b"/>
            <a:pathLst>
              <a:path w="799" h="1584">
                <a:moveTo>
                  <a:pt x="799" y="1160"/>
                </a:moveTo>
                <a:lnTo>
                  <a:pt x="583" y="1160"/>
                </a:lnTo>
                <a:lnTo>
                  <a:pt x="583" y="0"/>
                </a:lnTo>
                <a:lnTo>
                  <a:pt x="216" y="0"/>
                </a:lnTo>
                <a:lnTo>
                  <a:pt x="216" y="1160"/>
                </a:lnTo>
                <a:lnTo>
                  <a:pt x="0" y="1160"/>
                </a:lnTo>
                <a:lnTo>
                  <a:pt x="396" y="1584"/>
                </a:lnTo>
                <a:lnTo>
                  <a:pt x="799" y="1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624640" y="5610240"/>
            <a:ext cx="287640" cy="522720"/>
          </a:xfrm>
          <a:custGeom>
            <a:avLst/>
            <a:gdLst/>
            <a:ahLst/>
            <a:rect l="0" t="0" r="r" b="b"/>
            <a:pathLst>
              <a:path w="799" h="1452">
                <a:moveTo>
                  <a:pt x="799" y="1063"/>
                </a:moveTo>
                <a:lnTo>
                  <a:pt x="583" y="1063"/>
                </a:lnTo>
                <a:lnTo>
                  <a:pt x="583" y="0"/>
                </a:lnTo>
                <a:lnTo>
                  <a:pt x="216" y="0"/>
                </a:lnTo>
                <a:lnTo>
                  <a:pt x="216" y="1063"/>
                </a:lnTo>
                <a:lnTo>
                  <a:pt x="0" y="1063"/>
                </a:lnTo>
                <a:lnTo>
                  <a:pt x="396" y="1452"/>
                </a:lnTo>
                <a:lnTo>
                  <a:pt x="799" y="106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24640" y="5029200"/>
            <a:ext cx="287640" cy="522720"/>
          </a:xfrm>
          <a:custGeom>
            <a:avLst/>
            <a:gdLst/>
            <a:ahLst/>
            <a:rect l="0" t="0" r="r" b="b"/>
            <a:pathLst>
              <a:path w="799" h="1452">
                <a:moveTo>
                  <a:pt x="799" y="1063"/>
                </a:moveTo>
                <a:lnTo>
                  <a:pt x="583" y="1063"/>
                </a:lnTo>
                <a:lnTo>
                  <a:pt x="583" y="0"/>
                </a:lnTo>
                <a:lnTo>
                  <a:pt x="216" y="0"/>
                </a:lnTo>
                <a:lnTo>
                  <a:pt x="216" y="1063"/>
                </a:lnTo>
                <a:lnTo>
                  <a:pt x="0" y="1063"/>
                </a:lnTo>
                <a:lnTo>
                  <a:pt x="396" y="1452"/>
                </a:lnTo>
                <a:lnTo>
                  <a:pt x="799" y="106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624640" y="4457880"/>
            <a:ext cx="287640" cy="532080"/>
          </a:xfrm>
          <a:custGeom>
            <a:avLst/>
            <a:gdLst/>
            <a:ahLst/>
            <a:rect l="0" t="0" r="r" b="b"/>
            <a:pathLst>
              <a:path w="799" h="1478">
                <a:moveTo>
                  <a:pt x="799" y="1081"/>
                </a:moveTo>
                <a:lnTo>
                  <a:pt x="583" y="1081"/>
                </a:lnTo>
                <a:lnTo>
                  <a:pt x="583" y="0"/>
                </a:lnTo>
                <a:lnTo>
                  <a:pt x="216" y="0"/>
                </a:lnTo>
                <a:lnTo>
                  <a:pt x="216" y="1081"/>
                </a:lnTo>
                <a:lnTo>
                  <a:pt x="0" y="1081"/>
                </a:lnTo>
                <a:lnTo>
                  <a:pt x="396" y="1478"/>
                </a:lnTo>
                <a:lnTo>
                  <a:pt x="799" y="10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495680" y="3657600"/>
            <a:ext cx="273240" cy="756000"/>
          </a:xfrm>
          <a:custGeom>
            <a:avLst/>
            <a:gdLst/>
            <a:ahLst/>
            <a:rect l="0" t="0" r="r" b="b"/>
            <a:pathLst>
              <a:path w="759" h="2100">
                <a:moveTo>
                  <a:pt x="759" y="1531"/>
                </a:moveTo>
                <a:lnTo>
                  <a:pt x="552" y="1531"/>
                </a:lnTo>
                <a:lnTo>
                  <a:pt x="552" y="0"/>
                </a:lnTo>
                <a:lnTo>
                  <a:pt x="207" y="0"/>
                </a:lnTo>
                <a:lnTo>
                  <a:pt x="207" y="1531"/>
                </a:lnTo>
                <a:lnTo>
                  <a:pt x="0" y="1531"/>
                </a:lnTo>
                <a:lnTo>
                  <a:pt x="380" y="2100"/>
                </a:lnTo>
                <a:lnTo>
                  <a:pt x="759" y="15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81640" y="2843280"/>
            <a:ext cx="287640" cy="527400"/>
          </a:xfrm>
          <a:custGeom>
            <a:avLst/>
            <a:gdLst/>
            <a:ahLst/>
            <a:rect l="0" t="0" r="r" b="b"/>
            <a:pathLst>
              <a:path w="799" h="1465">
                <a:moveTo>
                  <a:pt x="799" y="1072"/>
                </a:moveTo>
                <a:lnTo>
                  <a:pt x="583" y="1072"/>
                </a:lnTo>
                <a:lnTo>
                  <a:pt x="583" y="0"/>
                </a:lnTo>
                <a:lnTo>
                  <a:pt x="216" y="0"/>
                </a:lnTo>
                <a:lnTo>
                  <a:pt x="216" y="1072"/>
                </a:lnTo>
                <a:lnTo>
                  <a:pt x="0" y="1072"/>
                </a:lnTo>
                <a:lnTo>
                  <a:pt x="396" y="1465"/>
                </a:lnTo>
                <a:lnTo>
                  <a:pt x="799" y="10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732720" y="2819520"/>
            <a:ext cx="287640" cy="543240"/>
          </a:xfrm>
          <a:custGeom>
            <a:avLst/>
            <a:gdLst/>
            <a:ahLst/>
            <a:rect l="0" t="0" r="r" b="b"/>
            <a:pathLst>
              <a:path w="799" h="1509">
                <a:moveTo>
                  <a:pt x="0" y="1103"/>
                </a:moveTo>
                <a:lnTo>
                  <a:pt x="216" y="1103"/>
                </a:lnTo>
                <a:lnTo>
                  <a:pt x="216" y="0"/>
                </a:lnTo>
                <a:lnTo>
                  <a:pt x="583" y="0"/>
                </a:lnTo>
                <a:lnTo>
                  <a:pt x="583" y="1103"/>
                </a:lnTo>
                <a:lnTo>
                  <a:pt x="799" y="1103"/>
                </a:lnTo>
                <a:lnTo>
                  <a:pt x="402" y="1509"/>
                </a:lnTo>
                <a:lnTo>
                  <a:pt x="0" y="110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7391520" y="3662280"/>
            <a:ext cx="287640" cy="2508480"/>
            <a:chOff x="7391520" y="3662280"/>
            <a:chExt cx="287640" cy="2508480"/>
          </a:xfrm>
        </p:grpSpPr>
        <p:sp>
          <p:nvSpPr>
            <p:cNvPr id="935" name=""/>
            <p:cNvSpPr/>
            <p:nvPr/>
          </p:nvSpPr>
          <p:spPr>
            <a:xfrm>
              <a:off x="7391520" y="4956120"/>
              <a:ext cx="287640" cy="1214640"/>
            </a:xfrm>
            <a:custGeom>
              <a:avLst/>
              <a:gdLst/>
              <a:ahLst/>
              <a:rect l="0" t="0" r="r" b="b"/>
              <a:pathLst>
                <a:path w="799" h="3374">
                  <a:moveTo>
                    <a:pt x="0" y="2470"/>
                  </a:moveTo>
                  <a:lnTo>
                    <a:pt x="216" y="2470"/>
                  </a:lnTo>
                  <a:lnTo>
                    <a:pt x="216" y="0"/>
                  </a:lnTo>
                  <a:lnTo>
                    <a:pt x="583" y="0"/>
                  </a:lnTo>
                  <a:lnTo>
                    <a:pt x="583" y="2470"/>
                  </a:lnTo>
                  <a:lnTo>
                    <a:pt x="799" y="2470"/>
                  </a:lnTo>
                  <a:lnTo>
                    <a:pt x="402" y="3374"/>
                  </a:lnTo>
                  <a:lnTo>
                    <a:pt x="0" y="247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69280" y="3662280"/>
              <a:ext cx="133200" cy="231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614920" y="2209680"/>
            <a:ext cx="287640" cy="551160"/>
          </a:xfrm>
          <a:custGeom>
            <a:avLst/>
            <a:gdLst/>
            <a:ahLst/>
            <a:rect l="0" t="0" r="r" b="b"/>
            <a:pathLst>
              <a:path w="799" h="1531">
                <a:moveTo>
                  <a:pt x="799" y="1121"/>
                </a:moveTo>
                <a:lnTo>
                  <a:pt x="583" y="1121"/>
                </a:lnTo>
                <a:lnTo>
                  <a:pt x="583" y="0"/>
                </a:lnTo>
                <a:lnTo>
                  <a:pt x="216" y="0"/>
                </a:lnTo>
                <a:lnTo>
                  <a:pt x="216" y="1121"/>
                </a:lnTo>
                <a:lnTo>
                  <a:pt x="0" y="1121"/>
                </a:lnTo>
                <a:lnTo>
                  <a:pt x="396" y="1531"/>
                </a:lnTo>
                <a:lnTo>
                  <a:pt x="799" y="11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498840" y="2771640"/>
            <a:ext cx="3616200" cy="28260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795920" y="2770200"/>
            <a:ext cx="1838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Ev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22480" y="987480"/>
            <a:ext cx="287640" cy="570240"/>
          </a:xfrm>
          <a:custGeom>
            <a:avLst/>
            <a:gdLst/>
            <a:ahLst/>
            <a:rect l="0" t="0" r="r" b="b"/>
            <a:pathLst>
              <a:path w="799" h="1584">
                <a:moveTo>
                  <a:pt x="799" y="1160"/>
                </a:moveTo>
                <a:lnTo>
                  <a:pt x="583" y="1160"/>
                </a:lnTo>
                <a:lnTo>
                  <a:pt x="583" y="0"/>
                </a:lnTo>
                <a:lnTo>
                  <a:pt x="216" y="0"/>
                </a:lnTo>
                <a:lnTo>
                  <a:pt x="216" y="1160"/>
                </a:lnTo>
                <a:lnTo>
                  <a:pt x="0" y="1160"/>
                </a:lnTo>
                <a:lnTo>
                  <a:pt x="396" y="1584"/>
                </a:lnTo>
                <a:lnTo>
                  <a:pt x="799" y="1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969840" y="1790640"/>
            <a:ext cx="287640" cy="570240"/>
          </a:xfrm>
          <a:custGeom>
            <a:avLst/>
            <a:gdLst/>
            <a:ahLst/>
            <a:rect l="0" t="0" r="r" b="b"/>
            <a:pathLst>
              <a:path w="799" h="1584">
                <a:moveTo>
                  <a:pt x="799" y="1160"/>
                </a:moveTo>
                <a:lnTo>
                  <a:pt x="583" y="1160"/>
                </a:lnTo>
                <a:lnTo>
                  <a:pt x="583" y="0"/>
                </a:lnTo>
                <a:lnTo>
                  <a:pt x="216" y="0"/>
                </a:lnTo>
                <a:lnTo>
                  <a:pt x="216" y="1160"/>
                </a:lnTo>
                <a:lnTo>
                  <a:pt x="0" y="1160"/>
                </a:lnTo>
                <a:lnTo>
                  <a:pt x="396" y="1584"/>
                </a:lnTo>
                <a:lnTo>
                  <a:pt x="799" y="1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304920" y="5334120"/>
            <a:ext cx="2709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MOSA CRIS V1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formation Schema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980480" y="1600200"/>
            <a:ext cx="287640" cy="554400"/>
          </a:xfrm>
          <a:custGeom>
            <a:avLst/>
            <a:gdLst/>
            <a:ahLst/>
            <a:rect l="0" t="0" r="r" b="b"/>
            <a:pathLst>
              <a:path w="799" h="1540">
                <a:moveTo>
                  <a:pt x="799" y="1125"/>
                </a:moveTo>
                <a:lnTo>
                  <a:pt x="583" y="1125"/>
                </a:lnTo>
                <a:lnTo>
                  <a:pt x="583" y="0"/>
                </a:lnTo>
                <a:lnTo>
                  <a:pt x="216" y="0"/>
                </a:lnTo>
                <a:lnTo>
                  <a:pt x="216" y="1125"/>
                </a:lnTo>
                <a:lnTo>
                  <a:pt x="0" y="1125"/>
                </a:lnTo>
                <a:lnTo>
                  <a:pt x="396" y="1540"/>
                </a:lnTo>
                <a:lnTo>
                  <a:pt x="799" y="11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729480" y="1604880"/>
            <a:ext cx="287640" cy="572040"/>
          </a:xfrm>
          <a:custGeom>
            <a:avLst/>
            <a:gdLst/>
            <a:ahLst/>
            <a:rect l="0" t="0" r="r" b="b"/>
            <a:pathLst>
              <a:path w="799" h="1589">
                <a:moveTo>
                  <a:pt x="799" y="1160"/>
                </a:moveTo>
                <a:lnTo>
                  <a:pt x="583" y="1160"/>
                </a:lnTo>
                <a:lnTo>
                  <a:pt x="583" y="0"/>
                </a:lnTo>
                <a:lnTo>
                  <a:pt x="216" y="0"/>
                </a:lnTo>
                <a:lnTo>
                  <a:pt x="216" y="1160"/>
                </a:lnTo>
                <a:lnTo>
                  <a:pt x="0" y="1160"/>
                </a:lnTo>
                <a:lnTo>
                  <a:pt x="396" y="1589"/>
                </a:lnTo>
                <a:lnTo>
                  <a:pt x="799" y="1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484520" y="1600200"/>
            <a:ext cx="287640" cy="582840"/>
          </a:xfrm>
          <a:custGeom>
            <a:avLst/>
            <a:gdLst/>
            <a:ahLst/>
            <a:rect l="0" t="0" r="r" b="b"/>
            <a:pathLst>
              <a:path w="799" h="1619">
                <a:moveTo>
                  <a:pt x="799" y="1182"/>
                </a:moveTo>
                <a:lnTo>
                  <a:pt x="583" y="1182"/>
                </a:lnTo>
                <a:lnTo>
                  <a:pt x="583" y="0"/>
                </a:lnTo>
                <a:lnTo>
                  <a:pt x="216" y="0"/>
                </a:lnTo>
                <a:lnTo>
                  <a:pt x="216" y="1182"/>
                </a:lnTo>
                <a:lnTo>
                  <a:pt x="0" y="1182"/>
                </a:lnTo>
                <a:lnTo>
                  <a:pt x="396" y="1619"/>
                </a:lnTo>
                <a:lnTo>
                  <a:pt x="799" y="118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7596360" y="2173320"/>
            <a:ext cx="1092240" cy="322200"/>
            <a:chOff x="7596360" y="2173320"/>
            <a:chExt cx="1092240" cy="322200"/>
          </a:xfrm>
        </p:grpSpPr>
        <p:sp>
          <p:nvSpPr>
            <p:cNvPr id="947" name=""/>
            <p:cNvSpPr/>
            <p:nvPr/>
          </p:nvSpPr>
          <p:spPr>
            <a:xfrm>
              <a:off x="7596360" y="2173320"/>
              <a:ext cx="1092240" cy="32220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7813800" y="2190600"/>
              <a:ext cx="7333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e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7532640" y="981000"/>
            <a:ext cx="287640" cy="582840"/>
          </a:xfrm>
          <a:custGeom>
            <a:avLst/>
            <a:gdLst/>
            <a:ahLst/>
            <a:rect l="0" t="0" r="r" b="b"/>
            <a:pathLst>
              <a:path w="799" h="1619">
                <a:moveTo>
                  <a:pt x="799" y="1182"/>
                </a:moveTo>
                <a:lnTo>
                  <a:pt x="583" y="1182"/>
                </a:lnTo>
                <a:lnTo>
                  <a:pt x="583" y="0"/>
                </a:lnTo>
                <a:lnTo>
                  <a:pt x="216" y="0"/>
                </a:lnTo>
                <a:lnTo>
                  <a:pt x="216" y="1182"/>
                </a:lnTo>
                <a:lnTo>
                  <a:pt x="0" y="1182"/>
                </a:lnTo>
                <a:lnTo>
                  <a:pt x="396" y="1619"/>
                </a:lnTo>
                <a:lnTo>
                  <a:pt x="799" y="118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522600" y="987480"/>
            <a:ext cx="287640" cy="570240"/>
          </a:xfrm>
          <a:custGeom>
            <a:avLst/>
            <a:gdLst/>
            <a:ahLst/>
            <a:rect l="0" t="0" r="r" b="b"/>
            <a:pathLst>
              <a:path w="799" h="1584">
                <a:moveTo>
                  <a:pt x="799" y="1160"/>
                </a:moveTo>
                <a:lnTo>
                  <a:pt x="583" y="1160"/>
                </a:lnTo>
                <a:lnTo>
                  <a:pt x="583" y="0"/>
                </a:lnTo>
                <a:lnTo>
                  <a:pt x="216" y="0"/>
                </a:lnTo>
                <a:lnTo>
                  <a:pt x="216" y="1160"/>
                </a:lnTo>
                <a:lnTo>
                  <a:pt x="0" y="1160"/>
                </a:lnTo>
                <a:lnTo>
                  <a:pt x="396" y="1584"/>
                </a:lnTo>
                <a:lnTo>
                  <a:pt x="799" y="1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842000" y="1596960"/>
            <a:ext cx="919440" cy="287640"/>
          </a:xfrm>
          <a:custGeom>
            <a:avLst/>
            <a:gdLst/>
            <a:ahLst/>
            <a:rect l="0" t="0" r="r" b="b"/>
            <a:pathLst>
              <a:path w="2554" h="799">
                <a:moveTo>
                  <a:pt x="683" y="799"/>
                </a:moveTo>
                <a:lnTo>
                  <a:pt x="683" y="583"/>
                </a:lnTo>
                <a:lnTo>
                  <a:pt x="2554" y="583"/>
                </a:lnTo>
                <a:lnTo>
                  <a:pt x="2554" y="216"/>
                </a:lnTo>
                <a:lnTo>
                  <a:pt x="683" y="216"/>
                </a:lnTo>
                <a:lnTo>
                  <a:pt x="683" y="0"/>
                </a:lnTo>
                <a:lnTo>
                  <a:pt x="0" y="396"/>
                </a:lnTo>
                <a:lnTo>
                  <a:pt x="683" y="7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51360" y="1596960"/>
            <a:ext cx="919440" cy="287640"/>
          </a:xfrm>
          <a:custGeom>
            <a:avLst/>
            <a:gdLst/>
            <a:ahLst/>
            <a:rect l="0" t="0" r="r" b="b"/>
            <a:pathLst>
              <a:path w="2554" h="799">
                <a:moveTo>
                  <a:pt x="1870" y="799"/>
                </a:moveTo>
                <a:lnTo>
                  <a:pt x="1870" y="583"/>
                </a:lnTo>
                <a:lnTo>
                  <a:pt x="0" y="583"/>
                </a:lnTo>
                <a:lnTo>
                  <a:pt x="0" y="216"/>
                </a:lnTo>
                <a:lnTo>
                  <a:pt x="1870" y="216"/>
                </a:lnTo>
                <a:lnTo>
                  <a:pt x="1870" y="0"/>
                </a:lnTo>
                <a:lnTo>
                  <a:pt x="2554" y="396"/>
                </a:lnTo>
                <a:lnTo>
                  <a:pt x="1870" y="7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7200" y="973080"/>
            <a:ext cx="8220240" cy="30312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564080" y="963720"/>
            <a:ext cx="536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486160" y="1590840"/>
            <a:ext cx="2362320" cy="304920"/>
          </a:xfrm>
          <a:prstGeom prst="rect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2919240" y="1589040"/>
            <a:ext cx="14986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Seg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676920" y="1590840"/>
            <a:ext cx="2009880" cy="3049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7346880" y="1589040"/>
            <a:ext cx="6555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5243400" y="1595520"/>
            <a:ext cx="1031760" cy="32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438800" y="2174760"/>
            <a:ext cx="266688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821120" y="2158920"/>
            <a:ext cx="2013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Lo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600120" y="1590840"/>
            <a:ext cx="1676520" cy="306360"/>
            <a:chOff x="600120" y="1590840"/>
            <a:chExt cx="1676520" cy="306360"/>
          </a:xfrm>
        </p:grpSpPr>
        <p:sp>
          <p:nvSpPr>
            <p:cNvPr id="963" name=""/>
            <p:cNvSpPr/>
            <p:nvPr/>
          </p:nvSpPr>
          <p:spPr>
            <a:xfrm>
              <a:off x="600120" y="1590840"/>
              <a:ext cx="1676520" cy="30492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932040" y="1595520"/>
              <a:ext cx="1008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bas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-6480" y="2355840"/>
            <a:ext cx="1725840" cy="306360"/>
            <a:chOff x="-6480" y="2355840"/>
            <a:chExt cx="1725840" cy="306360"/>
          </a:xfrm>
        </p:grpSpPr>
        <p:sp>
          <p:nvSpPr>
            <p:cNvPr id="966" name=""/>
            <p:cNvSpPr/>
            <p:nvPr/>
          </p:nvSpPr>
          <p:spPr>
            <a:xfrm>
              <a:off x="42840" y="2357280"/>
              <a:ext cx="16765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-6480" y="235584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e T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808280" y="2341440"/>
            <a:ext cx="1687680" cy="306720"/>
            <a:chOff x="1808280" y="2341440"/>
            <a:chExt cx="1687680" cy="306720"/>
          </a:xfrm>
        </p:grpSpPr>
        <p:sp>
          <p:nvSpPr>
            <p:cNvPr id="969" name=""/>
            <p:cNvSpPr/>
            <p:nvPr/>
          </p:nvSpPr>
          <p:spPr>
            <a:xfrm>
              <a:off x="1819440" y="2343240"/>
              <a:ext cx="1676520" cy="304920"/>
            </a:xfrm>
            <a:prstGeom prst="rect">
              <a:avLst/>
            </a:prstGeom>
            <a:solidFill>
              <a:srgbClr val="a2ffa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1808280" y="2341440"/>
              <a:ext cx="12430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ed Li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6524640" y="3379680"/>
            <a:ext cx="2009880" cy="306720"/>
            <a:chOff x="6524640" y="3379680"/>
            <a:chExt cx="2009880" cy="306720"/>
          </a:xfrm>
        </p:grpSpPr>
        <p:sp>
          <p:nvSpPr>
            <p:cNvPr id="972" name=""/>
            <p:cNvSpPr/>
            <p:nvPr/>
          </p:nvSpPr>
          <p:spPr>
            <a:xfrm>
              <a:off x="6524640" y="3381480"/>
              <a:ext cx="2009880" cy="30492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6913440" y="3379680"/>
              <a:ext cx="11732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 Valu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336920" y="3346560"/>
            <a:ext cx="2011680" cy="306360"/>
            <a:chOff x="4336920" y="3346560"/>
            <a:chExt cx="2011680" cy="306360"/>
          </a:xfrm>
        </p:grpSpPr>
        <p:sp>
          <p:nvSpPr>
            <p:cNvPr id="975" name=""/>
            <p:cNvSpPr/>
            <p:nvPr/>
          </p:nvSpPr>
          <p:spPr>
            <a:xfrm>
              <a:off x="4338720" y="3348000"/>
              <a:ext cx="2009880" cy="30492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 txBox="1"/>
            <p:nvPr/>
          </p:nvSpPr>
          <p:spPr>
            <a:xfrm>
              <a:off x="4336920" y="3346560"/>
              <a:ext cx="2006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gnal Processing (opt.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4419720" y="4427640"/>
            <a:ext cx="2676600" cy="301680"/>
            <a:chOff x="4419720" y="4427640"/>
            <a:chExt cx="2676600" cy="301680"/>
          </a:xfrm>
        </p:grpSpPr>
        <p:sp>
          <p:nvSpPr>
            <p:cNvPr id="978" name=""/>
            <p:cNvSpPr/>
            <p:nvPr/>
          </p:nvSpPr>
          <p:spPr>
            <a:xfrm>
              <a:off x="4419720" y="4429080"/>
              <a:ext cx="2676600" cy="2998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 txBox="1"/>
            <p:nvPr/>
          </p:nvSpPr>
          <p:spPr>
            <a:xfrm>
              <a:off x="4856040" y="4427640"/>
              <a:ext cx="16621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dow/Averag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419720" y="4998960"/>
            <a:ext cx="2676600" cy="301680"/>
            <a:chOff x="4419720" y="4998960"/>
            <a:chExt cx="2676600" cy="301680"/>
          </a:xfrm>
        </p:grpSpPr>
        <p:sp>
          <p:nvSpPr>
            <p:cNvPr id="981" name=""/>
            <p:cNvSpPr/>
            <p:nvPr/>
          </p:nvSpPr>
          <p:spPr>
            <a:xfrm>
              <a:off x="4419720" y="5000760"/>
              <a:ext cx="2676600" cy="2998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894200" y="4998960"/>
              <a:ext cx="17226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 Process Scal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4413240" y="5556240"/>
            <a:ext cx="2666880" cy="3175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641840" y="5556240"/>
            <a:ext cx="24480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es, FFTs, Time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914560" y="6162840"/>
            <a:ext cx="566244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5373720" y="6161040"/>
            <a:ext cx="7444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0" y="2743200"/>
            <a:ext cx="17557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MOSA Refer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 Ent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2446200" y="2903400"/>
            <a:ext cx="3214800" cy="2146320"/>
          </a:xfrm>
          <a:prstGeom prst="rect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 Type:  defines valid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  Taxonomy:  Hierarchical segment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18  Identification: processes,  machine 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19  Parent Child: segment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 Input: process flow into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 Output: process flow out of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 Numeric Data: associated wit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 Character Data: associated wit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 Events: history of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390680" y="2895480"/>
            <a:ext cx="495720" cy="786240"/>
          </a:xfrm>
          <a:custGeom>
            <a:avLst/>
            <a:gdLst/>
            <a:ahLst/>
            <a:rect l="0" t="0" r="r" b="b"/>
            <a:pathLst>
              <a:path w="1377" h="2184">
                <a:moveTo>
                  <a:pt x="0" y="1597"/>
                </a:moveTo>
                <a:lnTo>
                  <a:pt x="371" y="1597"/>
                </a:lnTo>
                <a:lnTo>
                  <a:pt x="371" y="0"/>
                </a:lnTo>
                <a:lnTo>
                  <a:pt x="1006" y="0"/>
                </a:lnTo>
                <a:lnTo>
                  <a:pt x="1006" y="1597"/>
                </a:lnTo>
                <a:lnTo>
                  <a:pt x="1377" y="1597"/>
                </a:lnTo>
                <a:lnTo>
                  <a:pt x="688" y="2184"/>
                </a:lnTo>
                <a:lnTo>
                  <a:pt x="0" y="159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990880" y="5272200"/>
            <a:ext cx="495720" cy="1325880"/>
          </a:xfrm>
          <a:custGeom>
            <a:avLst/>
            <a:gdLst/>
            <a:ahLst/>
            <a:rect l="0" t="0" r="r" b="b"/>
            <a:pathLst>
              <a:path w="1377" h="3683">
                <a:moveTo>
                  <a:pt x="0" y="2695"/>
                </a:moveTo>
                <a:lnTo>
                  <a:pt x="371" y="2695"/>
                </a:lnTo>
                <a:lnTo>
                  <a:pt x="371" y="0"/>
                </a:lnTo>
                <a:lnTo>
                  <a:pt x="1006" y="0"/>
                </a:lnTo>
                <a:lnTo>
                  <a:pt x="1006" y="2695"/>
                </a:lnTo>
                <a:lnTo>
                  <a:pt x="1377" y="2695"/>
                </a:lnTo>
                <a:lnTo>
                  <a:pt x="688" y="3683"/>
                </a:lnTo>
                <a:lnTo>
                  <a:pt x="0" y="269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52600" y="2895480"/>
            <a:ext cx="495720" cy="786240"/>
          </a:xfrm>
          <a:custGeom>
            <a:avLst/>
            <a:gdLst/>
            <a:ahLst/>
            <a:rect l="0" t="0" r="r" b="b"/>
            <a:pathLst>
              <a:path w="1377" h="2184">
                <a:moveTo>
                  <a:pt x="0" y="1597"/>
                </a:moveTo>
                <a:lnTo>
                  <a:pt x="371" y="1597"/>
                </a:lnTo>
                <a:lnTo>
                  <a:pt x="371" y="0"/>
                </a:lnTo>
                <a:lnTo>
                  <a:pt x="1006" y="0"/>
                </a:lnTo>
                <a:lnTo>
                  <a:pt x="1006" y="1597"/>
                </a:lnTo>
                <a:lnTo>
                  <a:pt x="1377" y="1597"/>
                </a:lnTo>
                <a:lnTo>
                  <a:pt x="688" y="2184"/>
                </a:lnTo>
                <a:lnTo>
                  <a:pt x="0" y="159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57160" y="1933560"/>
            <a:ext cx="495720" cy="919440"/>
          </a:xfrm>
          <a:custGeom>
            <a:avLst/>
            <a:gdLst/>
            <a:ahLst/>
            <a:rect l="0" t="0" r="r" b="b"/>
            <a:pathLst>
              <a:path w="1377" h="2554">
                <a:moveTo>
                  <a:pt x="0" y="1870"/>
                </a:moveTo>
                <a:lnTo>
                  <a:pt x="371" y="1870"/>
                </a:lnTo>
                <a:lnTo>
                  <a:pt x="371" y="0"/>
                </a:lnTo>
                <a:lnTo>
                  <a:pt x="1006" y="0"/>
                </a:lnTo>
                <a:lnTo>
                  <a:pt x="1006" y="1870"/>
                </a:lnTo>
                <a:lnTo>
                  <a:pt x="1377" y="1870"/>
                </a:lnTo>
                <a:lnTo>
                  <a:pt x="688" y="2554"/>
                </a:lnTo>
                <a:lnTo>
                  <a:pt x="0" y="18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666960" y="1924200"/>
            <a:ext cx="495720" cy="919440"/>
          </a:xfrm>
          <a:custGeom>
            <a:avLst/>
            <a:gdLst/>
            <a:ahLst/>
            <a:rect l="0" t="0" r="r" b="b"/>
            <a:pathLst>
              <a:path w="1377" h="2554">
                <a:moveTo>
                  <a:pt x="0" y="1870"/>
                </a:moveTo>
                <a:lnTo>
                  <a:pt x="371" y="1870"/>
                </a:lnTo>
                <a:lnTo>
                  <a:pt x="371" y="0"/>
                </a:lnTo>
                <a:lnTo>
                  <a:pt x="1006" y="0"/>
                </a:lnTo>
                <a:lnTo>
                  <a:pt x="1006" y="1870"/>
                </a:lnTo>
                <a:lnTo>
                  <a:pt x="1377" y="1870"/>
                </a:lnTo>
                <a:lnTo>
                  <a:pt x="688" y="2554"/>
                </a:lnTo>
                <a:lnTo>
                  <a:pt x="0" y="18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34160" y="1949400"/>
            <a:ext cx="495720" cy="919440"/>
          </a:xfrm>
          <a:custGeom>
            <a:avLst/>
            <a:gdLst/>
            <a:ahLst/>
            <a:rect l="0" t="0" r="r" b="b"/>
            <a:pathLst>
              <a:path w="1377" h="2554">
                <a:moveTo>
                  <a:pt x="0" y="1870"/>
                </a:moveTo>
                <a:lnTo>
                  <a:pt x="371" y="1870"/>
                </a:lnTo>
                <a:lnTo>
                  <a:pt x="371" y="0"/>
                </a:lnTo>
                <a:lnTo>
                  <a:pt x="1006" y="0"/>
                </a:lnTo>
                <a:lnTo>
                  <a:pt x="1006" y="1870"/>
                </a:lnTo>
                <a:lnTo>
                  <a:pt x="1377" y="1870"/>
                </a:lnTo>
                <a:lnTo>
                  <a:pt x="688" y="2554"/>
                </a:lnTo>
                <a:lnTo>
                  <a:pt x="0" y="18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666960" y="819000"/>
            <a:ext cx="495720" cy="919440"/>
          </a:xfrm>
          <a:custGeom>
            <a:avLst/>
            <a:gdLst/>
            <a:ahLst/>
            <a:rect l="0" t="0" r="r" b="b"/>
            <a:pathLst>
              <a:path w="1377" h="2554">
                <a:moveTo>
                  <a:pt x="0" y="1870"/>
                </a:moveTo>
                <a:lnTo>
                  <a:pt x="371" y="1870"/>
                </a:lnTo>
                <a:lnTo>
                  <a:pt x="371" y="0"/>
                </a:lnTo>
                <a:lnTo>
                  <a:pt x="1006" y="0"/>
                </a:lnTo>
                <a:lnTo>
                  <a:pt x="1006" y="1870"/>
                </a:lnTo>
                <a:lnTo>
                  <a:pt x="1377" y="1870"/>
                </a:lnTo>
                <a:lnTo>
                  <a:pt x="688" y="2554"/>
                </a:lnTo>
                <a:lnTo>
                  <a:pt x="0" y="18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62120" y="1766880"/>
            <a:ext cx="6553080" cy="65232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326360" y="1981080"/>
            <a:ext cx="902160" cy="336960"/>
          </a:xfrm>
          <a:custGeom>
            <a:avLst/>
            <a:gdLst/>
            <a:ahLst/>
            <a:rect l="0" t="0" r="r" b="b"/>
            <a:pathLst>
              <a:path w="2506" h="936">
                <a:moveTo>
                  <a:pt x="671" y="936"/>
                </a:moveTo>
                <a:lnTo>
                  <a:pt x="671" y="688"/>
                </a:lnTo>
                <a:lnTo>
                  <a:pt x="2506" y="688"/>
                </a:lnTo>
                <a:lnTo>
                  <a:pt x="2506" y="252"/>
                </a:lnTo>
                <a:lnTo>
                  <a:pt x="671" y="252"/>
                </a:lnTo>
                <a:lnTo>
                  <a:pt x="671" y="0"/>
                </a:lnTo>
                <a:lnTo>
                  <a:pt x="0" y="468"/>
                </a:lnTo>
                <a:lnTo>
                  <a:pt x="671" y="9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572240" y="4686120"/>
            <a:ext cx="495720" cy="919440"/>
          </a:xfrm>
          <a:custGeom>
            <a:avLst/>
            <a:gdLst/>
            <a:ahLst/>
            <a:rect l="0" t="0" r="r" b="b"/>
            <a:pathLst>
              <a:path w="1377" h="2554">
                <a:moveTo>
                  <a:pt x="0" y="1870"/>
                </a:moveTo>
                <a:lnTo>
                  <a:pt x="371" y="1870"/>
                </a:lnTo>
                <a:lnTo>
                  <a:pt x="371" y="0"/>
                </a:lnTo>
                <a:lnTo>
                  <a:pt x="1006" y="0"/>
                </a:lnTo>
                <a:lnTo>
                  <a:pt x="1006" y="1870"/>
                </a:lnTo>
                <a:lnTo>
                  <a:pt x="1377" y="1870"/>
                </a:lnTo>
                <a:lnTo>
                  <a:pt x="688" y="2554"/>
                </a:lnTo>
                <a:lnTo>
                  <a:pt x="0" y="18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8879040" y="2076480"/>
            <a:ext cx="171360" cy="1581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543800" y="2084400"/>
            <a:ext cx="14479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235080" y="5702400"/>
            <a:ext cx="2481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MOSA CRIS V1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bl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hematic (Part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289160" y="152280"/>
            <a:ext cx="5737320" cy="1031760"/>
            <a:chOff x="1289160" y="152280"/>
            <a:chExt cx="5737320" cy="1031760"/>
          </a:xfrm>
        </p:grpSpPr>
        <p:sp>
          <p:nvSpPr>
            <p:cNvPr id="1003" name=""/>
            <p:cNvSpPr/>
            <p:nvPr/>
          </p:nvSpPr>
          <p:spPr>
            <a:xfrm>
              <a:off x="1289160" y="173160"/>
              <a:ext cx="5568840" cy="808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 txBox="1"/>
            <p:nvPr/>
          </p:nvSpPr>
          <p:spPr>
            <a:xfrm>
              <a:off x="1359000" y="152280"/>
              <a:ext cx="5667480" cy="103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lobal Database Definitions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  Row status type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  Reference Engineering (SI) Units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8  Data quality typ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5" name=""/>
          <p:cNvSpPr txBox="1"/>
          <p:nvPr/>
        </p:nvSpPr>
        <p:spPr>
          <a:xfrm>
            <a:off x="3182760" y="1752480"/>
            <a:ext cx="158112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13  Site Ident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838840" y="2886120"/>
            <a:ext cx="2946240" cy="240984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108840" y="3657600"/>
            <a:ext cx="2959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823000" y="2843280"/>
            <a:ext cx="304632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 Type: defines valid ass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  Taxonomy:  Hierarchical asset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  Identification: processes, mech. equip.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  Owner: maps assets to owner (si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 Parent Child: asset relationsh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 Input: process flow into as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 Output: process flow out of as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  Numeric Data: associated with as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 Character Data: associated with as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  Events: history of ev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945480" y="5629320"/>
            <a:ext cx="1969920" cy="1184400"/>
            <a:chOff x="6945480" y="5629320"/>
            <a:chExt cx="1969920" cy="1184400"/>
          </a:xfrm>
        </p:grpSpPr>
        <p:sp>
          <p:nvSpPr>
            <p:cNvPr id="1010" name=""/>
            <p:cNvSpPr/>
            <p:nvPr/>
          </p:nvSpPr>
          <p:spPr>
            <a:xfrm>
              <a:off x="7010280" y="5638680"/>
              <a:ext cx="1905120" cy="114300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 txBox="1"/>
            <p:nvPr/>
          </p:nvSpPr>
          <p:spPr>
            <a:xfrm>
              <a:off x="6945480" y="5629320"/>
              <a:ext cx="1916280" cy="118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e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Manufactur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2  Model/Pa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7  Parent Child Breakdow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5  Numeric Data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6  Character Data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4254480" y="5305320"/>
            <a:ext cx="495720" cy="659160"/>
          </a:xfrm>
          <a:custGeom>
            <a:avLst/>
            <a:gdLst/>
            <a:ahLst/>
            <a:rect l="0" t="0" r="r" b="b"/>
            <a:pathLst>
              <a:path w="1377" h="1831">
                <a:moveTo>
                  <a:pt x="0" y="489"/>
                </a:moveTo>
                <a:lnTo>
                  <a:pt x="371" y="489"/>
                </a:lnTo>
                <a:lnTo>
                  <a:pt x="371" y="1831"/>
                </a:lnTo>
                <a:lnTo>
                  <a:pt x="1006" y="1831"/>
                </a:lnTo>
                <a:lnTo>
                  <a:pt x="1006" y="489"/>
                </a:lnTo>
                <a:lnTo>
                  <a:pt x="1377" y="489"/>
                </a:lnTo>
                <a:lnTo>
                  <a:pt x="688" y="0"/>
                </a:lnTo>
                <a:lnTo>
                  <a:pt x="0" y="4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786280" y="5337000"/>
            <a:ext cx="495720" cy="659160"/>
          </a:xfrm>
          <a:custGeom>
            <a:avLst/>
            <a:gdLst/>
            <a:ahLst/>
            <a:rect l="0" t="0" r="r" b="b"/>
            <a:pathLst>
              <a:path w="1377" h="1831">
                <a:moveTo>
                  <a:pt x="0" y="489"/>
                </a:moveTo>
                <a:lnTo>
                  <a:pt x="371" y="489"/>
                </a:lnTo>
                <a:lnTo>
                  <a:pt x="371" y="1831"/>
                </a:lnTo>
                <a:lnTo>
                  <a:pt x="1006" y="1831"/>
                </a:lnTo>
                <a:lnTo>
                  <a:pt x="1006" y="489"/>
                </a:lnTo>
                <a:lnTo>
                  <a:pt x="1377" y="489"/>
                </a:lnTo>
                <a:lnTo>
                  <a:pt x="688" y="0"/>
                </a:lnTo>
                <a:lnTo>
                  <a:pt x="0" y="4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3706920" y="5770440"/>
            <a:ext cx="2600280" cy="290520"/>
            <a:chOff x="3706920" y="5770440"/>
            <a:chExt cx="2600280" cy="290520"/>
          </a:xfrm>
        </p:grpSpPr>
        <p:sp>
          <p:nvSpPr>
            <p:cNvPr id="1015" name=""/>
            <p:cNvSpPr/>
            <p:nvPr/>
          </p:nvSpPr>
          <p:spPr>
            <a:xfrm>
              <a:off x="3749760" y="5780160"/>
              <a:ext cx="2486160" cy="2570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 txBox="1"/>
            <p:nvPr/>
          </p:nvSpPr>
          <p:spPr>
            <a:xfrm>
              <a:off x="3706920" y="5770440"/>
              <a:ext cx="2600280" cy="2905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4 Utilization: maps assets to se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228600" y="2876400"/>
            <a:ext cx="1874880" cy="522360"/>
          </a:xfrm>
          <a:prstGeom prst="rect">
            <a:avLst/>
          </a:prstGeom>
          <a:solidFill>
            <a:srgbClr val="a3f25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46160" y="3727440"/>
            <a:ext cx="1066680" cy="1917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152280" y="3701880"/>
            <a:ext cx="1216080" cy="19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Defini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 17, 98, 22, 23, 24, 25, 26, 29, 31, 99, 32, 97, 33, 34, 35, 36, 55, 51, 53, 46, 88, 60, 64, 66, 70, 71, 72, 73, 74, 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295280" y="3733920"/>
            <a:ext cx="1066680" cy="12193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281240" y="3760920"/>
            <a:ext cx="113976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ed Li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, 49, 50, 89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, 91, 92, 93, 94, 95, 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185760" y="2865600"/>
            <a:ext cx="1978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15  Database Ident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404040" y="5348160"/>
            <a:ext cx="495720" cy="1325880"/>
          </a:xfrm>
          <a:custGeom>
            <a:avLst/>
            <a:gdLst/>
            <a:ahLst/>
            <a:rect l="0" t="0" r="r" b="b"/>
            <a:pathLst>
              <a:path w="1377" h="3683">
                <a:moveTo>
                  <a:pt x="0" y="2695"/>
                </a:moveTo>
                <a:lnTo>
                  <a:pt x="371" y="2695"/>
                </a:lnTo>
                <a:lnTo>
                  <a:pt x="371" y="0"/>
                </a:lnTo>
                <a:lnTo>
                  <a:pt x="1006" y="0"/>
                </a:lnTo>
                <a:lnTo>
                  <a:pt x="1006" y="2695"/>
                </a:lnTo>
                <a:lnTo>
                  <a:pt x="1377" y="2695"/>
                </a:lnTo>
                <a:lnTo>
                  <a:pt x="688" y="3683"/>
                </a:lnTo>
                <a:lnTo>
                  <a:pt x="0" y="269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935520" y="6450120"/>
            <a:ext cx="27399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easurement Lo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7012080" y="407880"/>
            <a:ext cx="20494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Required for VIB-F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rvice Segments V1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VIB-SQL Server 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Segments V1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3065400" y="725400"/>
            <a:ext cx="919440" cy="495720"/>
          </a:xfrm>
          <a:custGeom>
            <a:avLst/>
            <a:gdLst/>
            <a:ahLst/>
            <a:rect l="0" t="0" r="r" b="b"/>
            <a:pathLst>
              <a:path w="2554" h="1377">
                <a:moveTo>
                  <a:pt x="1870" y="1377"/>
                </a:moveTo>
                <a:lnTo>
                  <a:pt x="1870" y="1006"/>
                </a:lnTo>
                <a:lnTo>
                  <a:pt x="0" y="1006"/>
                </a:lnTo>
                <a:lnTo>
                  <a:pt x="0" y="371"/>
                </a:lnTo>
                <a:lnTo>
                  <a:pt x="1870" y="371"/>
                </a:lnTo>
                <a:lnTo>
                  <a:pt x="1870" y="0"/>
                </a:lnTo>
                <a:lnTo>
                  <a:pt x="2554" y="688"/>
                </a:lnTo>
                <a:lnTo>
                  <a:pt x="1870" y="137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95360" y="609480"/>
            <a:ext cx="2819520" cy="12193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519120" y="633240"/>
            <a:ext cx="29019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Lo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47 Location: transducer, orientation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 Type of Transduc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 Type (msmnt): csng vib, shaft disp.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Transducer Sensitive Axis Dir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 Data Source Type: installed, data co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133880" y="1095480"/>
            <a:ext cx="495720" cy="919440"/>
          </a:xfrm>
          <a:custGeom>
            <a:avLst/>
            <a:gdLst/>
            <a:ahLst/>
            <a:rect l="0" t="0" r="r" b="b"/>
            <a:pathLst>
              <a:path w="1377" h="2554">
                <a:moveTo>
                  <a:pt x="0" y="1870"/>
                </a:moveTo>
                <a:lnTo>
                  <a:pt x="371" y="1870"/>
                </a:lnTo>
                <a:lnTo>
                  <a:pt x="371" y="0"/>
                </a:lnTo>
                <a:lnTo>
                  <a:pt x="1006" y="0"/>
                </a:lnTo>
                <a:lnTo>
                  <a:pt x="1006" y="1870"/>
                </a:lnTo>
                <a:lnTo>
                  <a:pt x="1377" y="1870"/>
                </a:lnTo>
                <a:lnTo>
                  <a:pt x="688" y="2554"/>
                </a:lnTo>
                <a:lnTo>
                  <a:pt x="0" y="18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934320" y="876240"/>
            <a:ext cx="495720" cy="919440"/>
          </a:xfrm>
          <a:custGeom>
            <a:avLst/>
            <a:gdLst/>
            <a:ahLst/>
            <a:rect l="0" t="0" r="r" b="b"/>
            <a:pathLst>
              <a:path w="1377" h="2554">
                <a:moveTo>
                  <a:pt x="0" y="1870"/>
                </a:moveTo>
                <a:lnTo>
                  <a:pt x="371" y="1870"/>
                </a:lnTo>
                <a:lnTo>
                  <a:pt x="371" y="0"/>
                </a:lnTo>
                <a:lnTo>
                  <a:pt x="1006" y="0"/>
                </a:lnTo>
                <a:lnTo>
                  <a:pt x="1006" y="1870"/>
                </a:lnTo>
                <a:lnTo>
                  <a:pt x="1377" y="1870"/>
                </a:lnTo>
                <a:lnTo>
                  <a:pt x="688" y="2554"/>
                </a:lnTo>
                <a:lnTo>
                  <a:pt x="0" y="18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000680" y="168120"/>
            <a:ext cx="3695760" cy="133200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95320" y="3638520"/>
            <a:ext cx="24768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211880" y="4581360"/>
            <a:ext cx="495720" cy="460800"/>
          </a:xfrm>
          <a:custGeom>
            <a:avLst/>
            <a:gdLst/>
            <a:ahLst/>
            <a:rect l="0" t="0" r="r" b="b"/>
            <a:pathLst>
              <a:path w="1377" h="1280">
                <a:moveTo>
                  <a:pt x="0" y="935"/>
                </a:moveTo>
                <a:lnTo>
                  <a:pt x="371" y="935"/>
                </a:lnTo>
                <a:lnTo>
                  <a:pt x="371" y="0"/>
                </a:lnTo>
                <a:lnTo>
                  <a:pt x="1006" y="0"/>
                </a:lnTo>
                <a:lnTo>
                  <a:pt x="1006" y="935"/>
                </a:lnTo>
                <a:lnTo>
                  <a:pt x="1377" y="935"/>
                </a:lnTo>
                <a:lnTo>
                  <a:pt x="688" y="1280"/>
                </a:lnTo>
                <a:lnTo>
                  <a:pt x="0" y="93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630760" y="4586400"/>
            <a:ext cx="495720" cy="460800"/>
          </a:xfrm>
          <a:custGeom>
            <a:avLst/>
            <a:gdLst/>
            <a:ahLst/>
            <a:rect l="0" t="0" r="r" b="b"/>
            <a:pathLst>
              <a:path w="1377" h="1280">
                <a:moveTo>
                  <a:pt x="0" y="935"/>
                </a:moveTo>
                <a:lnTo>
                  <a:pt x="371" y="935"/>
                </a:lnTo>
                <a:lnTo>
                  <a:pt x="371" y="0"/>
                </a:lnTo>
                <a:lnTo>
                  <a:pt x="1006" y="0"/>
                </a:lnTo>
                <a:lnTo>
                  <a:pt x="1006" y="935"/>
                </a:lnTo>
                <a:lnTo>
                  <a:pt x="1377" y="935"/>
                </a:lnTo>
                <a:lnTo>
                  <a:pt x="688" y="1280"/>
                </a:lnTo>
                <a:lnTo>
                  <a:pt x="0" y="93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359160" y="4614840"/>
            <a:ext cx="495720" cy="427320"/>
          </a:xfrm>
          <a:custGeom>
            <a:avLst/>
            <a:gdLst/>
            <a:ahLst/>
            <a:rect l="0" t="0" r="r" b="b"/>
            <a:pathLst>
              <a:path w="1377" h="1187">
                <a:moveTo>
                  <a:pt x="0" y="869"/>
                </a:moveTo>
                <a:lnTo>
                  <a:pt x="371" y="869"/>
                </a:lnTo>
                <a:lnTo>
                  <a:pt x="371" y="0"/>
                </a:lnTo>
                <a:lnTo>
                  <a:pt x="1006" y="0"/>
                </a:lnTo>
                <a:lnTo>
                  <a:pt x="1006" y="869"/>
                </a:lnTo>
                <a:lnTo>
                  <a:pt x="1377" y="869"/>
                </a:lnTo>
                <a:lnTo>
                  <a:pt x="688" y="1187"/>
                </a:lnTo>
                <a:lnTo>
                  <a:pt x="0" y="86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297160" y="3152880"/>
            <a:ext cx="495720" cy="460800"/>
          </a:xfrm>
          <a:custGeom>
            <a:avLst/>
            <a:gdLst/>
            <a:ahLst/>
            <a:rect l="0" t="0" r="r" b="b"/>
            <a:pathLst>
              <a:path w="1377" h="1280">
                <a:moveTo>
                  <a:pt x="0" y="935"/>
                </a:moveTo>
                <a:lnTo>
                  <a:pt x="371" y="935"/>
                </a:lnTo>
                <a:lnTo>
                  <a:pt x="371" y="0"/>
                </a:lnTo>
                <a:lnTo>
                  <a:pt x="1006" y="0"/>
                </a:lnTo>
                <a:lnTo>
                  <a:pt x="1006" y="935"/>
                </a:lnTo>
                <a:lnTo>
                  <a:pt x="1377" y="935"/>
                </a:lnTo>
                <a:lnTo>
                  <a:pt x="688" y="1280"/>
                </a:lnTo>
                <a:lnTo>
                  <a:pt x="0" y="93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61920" y="6280200"/>
            <a:ext cx="714852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MOSA CRIS V1.1  -- Table Relationshi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hematic (Part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cember 199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8553600" y="2376360"/>
            <a:ext cx="247680" cy="298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07280" y="3624120"/>
            <a:ext cx="495720" cy="470160"/>
          </a:xfrm>
          <a:custGeom>
            <a:avLst/>
            <a:gdLst/>
            <a:ahLst/>
            <a:rect l="0" t="0" r="r" b="b"/>
            <a:pathLst>
              <a:path w="1377" h="1306">
                <a:moveTo>
                  <a:pt x="0" y="957"/>
                </a:moveTo>
                <a:lnTo>
                  <a:pt x="371" y="957"/>
                </a:lnTo>
                <a:lnTo>
                  <a:pt x="371" y="0"/>
                </a:lnTo>
                <a:lnTo>
                  <a:pt x="1006" y="0"/>
                </a:lnTo>
                <a:lnTo>
                  <a:pt x="1006" y="957"/>
                </a:lnTo>
                <a:lnTo>
                  <a:pt x="1377" y="957"/>
                </a:lnTo>
                <a:lnTo>
                  <a:pt x="688" y="1306"/>
                </a:lnTo>
                <a:lnTo>
                  <a:pt x="0" y="95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81200" y="4148280"/>
            <a:ext cx="495720" cy="900360"/>
          </a:xfrm>
          <a:custGeom>
            <a:avLst/>
            <a:gdLst/>
            <a:ahLst/>
            <a:rect l="0" t="0" r="r" b="b"/>
            <a:pathLst>
              <a:path w="1377" h="2501">
                <a:moveTo>
                  <a:pt x="0" y="1831"/>
                </a:moveTo>
                <a:lnTo>
                  <a:pt x="371" y="1831"/>
                </a:lnTo>
                <a:lnTo>
                  <a:pt x="371" y="0"/>
                </a:lnTo>
                <a:lnTo>
                  <a:pt x="1006" y="0"/>
                </a:lnTo>
                <a:lnTo>
                  <a:pt x="1006" y="1831"/>
                </a:lnTo>
                <a:lnTo>
                  <a:pt x="1377" y="1831"/>
                </a:lnTo>
                <a:lnTo>
                  <a:pt x="688" y="2501"/>
                </a:lnTo>
                <a:lnTo>
                  <a:pt x="0" y="18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8424720" y="4614840"/>
            <a:ext cx="495720" cy="919440"/>
          </a:xfrm>
          <a:custGeom>
            <a:avLst/>
            <a:gdLst/>
            <a:ahLst/>
            <a:rect l="0" t="0" r="r" b="b"/>
            <a:pathLst>
              <a:path w="1377" h="2554">
                <a:moveTo>
                  <a:pt x="0" y="1870"/>
                </a:moveTo>
                <a:lnTo>
                  <a:pt x="371" y="1870"/>
                </a:lnTo>
                <a:lnTo>
                  <a:pt x="371" y="0"/>
                </a:lnTo>
                <a:lnTo>
                  <a:pt x="1006" y="0"/>
                </a:lnTo>
                <a:lnTo>
                  <a:pt x="1006" y="1870"/>
                </a:lnTo>
                <a:lnTo>
                  <a:pt x="1377" y="1870"/>
                </a:lnTo>
                <a:lnTo>
                  <a:pt x="688" y="2554"/>
                </a:lnTo>
                <a:lnTo>
                  <a:pt x="0" y="18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408560" y="3544920"/>
            <a:ext cx="919440" cy="495720"/>
          </a:xfrm>
          <a:custGeom>
            <a:avLst/>
            <a:gdLst/>
            <a:ahLst/>
            <a:rect l="0" t="0" r="r" b="b"/>
            <a:pathLst>
              <a:path w="2554" h="1377">
                <a:moveTo>
                  <a:pt x="1870" y="1377"/>
                </a:moveTo>
                <a:lnTo>
                  <a:pt x="1870" y="1006"/>
                </a:lnTo>
                <a:lnTo>
                  <a:pt x="0" y="1006"/>
                </a:lnTo>
                <a:lnTo>
                  <a:pt x="0" y="371"/>
                </a:lnTo>
                <a:lnTo>
                  <a:pt x="1870" y="371"/>
                </a:lnTo>
                <a:lnTo>
                  <a:pt x="1870" y="0"/>
                </a:lnTo>
                <a:lnTo>
                  <a:pt x="2554" y="688"/>
                </a:lnTo>
                <a:lnTo>
                  <a:pt x="1870" y="137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062240" y="125280"/>
            <a:ext cx="363852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Ev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56 Event Identification: time -- relates back to l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Event Association -- relationships between ev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 Alpha-numeric Data: identifiers for an ev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Data Source:  assets used to collect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 Transducer Description: asset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 Data Quality Ty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80880" y="2057400"/>
            <a:ext cx="4343400" cy="1373040"/>
          </a:xfrm>
          <a:prstGeom prst="rect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5920" y="2057400"/>
            <a:ext cx="440532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Processing (option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Type: defines all processing; filter, integration, demodulation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 Block Identifier (processing used): list from 6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 Block Data Type: associated filter frequency, dynamic range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 Data: numeric data for each blo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 Streams: names an entire block str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 Sequence of Blocks: e.g., filter, integrator, ac-dc conver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5343480" y="2833560"/>
            <a:ext cx="2657520" cy="1043280"/>
            <a:chOff x="5343480" y="2833560"/>
            <a:chExt cx="2657520" cy="1043280"/>
          </a:xfrm>
        </p:grpSpPr>
        <p:sp>
          <p:nvSpPr>
            <p:cNvPr id="1047" name=""/>
            <p:cNvSpPr/>
            <p:nvPr/>
          </p:nvSpPr>
          <p:spPr>
            <a:xfrm>
              <a:off x="5343480" y="2857680"/>
              <a:ext cx="2657520" cy="10191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 txBox="1"/>
            <p:nvPr/>
          </p:nvSpPr>
          <p:spPr>
            <a:xfrm>
              <a:off x="5348160" y="2833560"/>
              <a:ext cx="2589120" cy="103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dowing/Averag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Window: Hanning, Hamming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 Average: power, comple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1 Average Weight: linear, exponenti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2 Synchronization: free run, ti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600120" y="15840"/>
            <a:ext cx="495720" cy="528840"/>
          </a:xfrm>
          <a:custGeom>
            <a:avLst/>
            <a:gdLst/>
            <a:ahLst/>
            <a:rect l="0" t="0" r="r" b="b"/>
            <a:pathLst>
              <a:path w="1377" h="1469">
                <a:moveTo>
                  <a:pt x="0" y="1076"/>
                </a:moveTo>
                <a:lnTo>
                  <a:pt x="371" y="1076"/>
                </a:lnTo>
                <a:lnTo>
                  <a:pt x="371" y="0"/>
                </a:lnTo>
                <a:lnTo>
                  <a:pt x="1006" y="0"/>
                </a:lnTo>
                <a:lnTo>
                  <a:pt x="1006" y="1076"/>
                </a:lnTo>
                <a:lnTo>
                  <a:pt x="1377" y="1076"/>
                </a:lnTo>
                <a:lnTo>
                  <a:pt x="688" y="1469"/>
                </a:lnTo>
                <a:lnTo>
                  <a:pt x="0" y="107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343480" y="1800360"/>
            <a:ext cx="3619440" cy="647640"/>
          </a:xfrm>
          <a:prstGeom prst="rect">
            <a:avLst/>
          </a:prstGeom>
          <a:solidFill>
            <a:srgbClr val="a3f25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5291280" y="1849320"/>
            <a:ext cx="37227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Value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 Remarks: freeform notes, why recorde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58 Numeric Data: non signal processed; temp., press, et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630760" y="5057640"/>
            <a:ext cx="495720" cy="460800"/>
          </a:xfrm>
          <a:custGeom>
            <a:avLst/>
            <a:gdLst/>
            <a:ahLst/>
            <a:rect l="0" t="0" r="r" b="b"/>
            <a:pathLst>
              <a:path w="1377" h="1280">
                <a:moveTo>
                  <a:pt x="0" y="935"/>
                </a:moveTo>
                <a:lnTo>
                  <a:pt x="371" y="935"/>
                </a:lnTo>
                <a:lnTo>
                  <a:pt x="371" y="0"/>
                </a:lnTo>
                <a:lnTo>
                  <a:pt x="1006" y="0"/>
                </a:lnTo>
                <a:lnTo>
                  <a:pt x="1006" y="935"/>
                </a:lnTo>
                <a:lnTo>
                  <a:pt x="1377" y="935"/>
                </a:lnTo>
                <a:lnTo>
                  <a:pt x="688" y="1280"/>
                </a:lnTo>
                <a:lnTo>
                  <a:pt x="0" y="93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363840" y="5057640"/>
            <a:ext cx="495720" cy="460800"/>
          </a:xfrm>
          <a:custGeom>
            <a:avLst/>
            <a:gdLst/>
            <a:ahLst/>
            <a:rect l="0" t="0" r="r" b="b"/>
            <a:pathLst>
              <a:path w="1377" h="1280">
                <a:moveTo>
                  <a:pt x="0" y="935"/>
                </a:moveTo>
                <a:lnTo>
                  <a:pt x="371" y="935"/>
                </a:lnTo>
                <a:lnTo>
                  <a:pt x="371" y="0"/>
                </a:lnTo>
                <a:lnTo>
                  <a:pt x="1006" y="0"/>
                </a:lnTo>
                <a:lnTo>
                  <a:pt x="1006" y="935"/>
                </a:lnTo>
                <a:lnTo>
                  <a:pt x="1377" y="935"/>
                </a:lnTo>
                <a:lnTo>
                  <a:pt x="688" y="1280"/>
                </a:lnTo>
                <a:lnTo>
                  <a:pt x="0" y="93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73280" y="5057640"/>
            <a:ext cx="495720" cy="460800"/>
          </a:xfrm>
          <a:custGeom>
            <a:avLst/>
            <a:gdLst/>
            <a:ahLst/>
            <a:rect l="0" t="0" r="r" b="b"/>
            <a:pathLst>
              <a:path w="1377" h="1280">
                <a:moveTo>
                  <a:pt x="0" y="935"/>
                </a:moveTo>
                <a:lnTo>
                  <a:pt x="371" y="935"/>
                </a:lnTo>
                <a:lnTo>
                  <a:pt x="371" y="0"/>
                </a:lnTo>
                <a:lnTo>
                  <a:pt x="1006" y="0"/>
                </a:lnTo>
                <a:lnTo>
                  <a:pt x="1006" y="935"/>
                </a:lnTo>
                <a:lnTo>
                  <a:pt x="1377" y="935"/>
                </a:lnTo>
                <a:lnTo>
                  <a:pt x="688" y="1280"/>
                </a:lnTo>
                <a:lnTo>
                  <a:pt x="0" y="93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162000" y="5049720"/>
            <a:ext cx="8172360" cy="284040"/>
            <a:chOff x="162000" y="5049720"/>
            <a:chExt cx="8172360" cy="284040"/>
          </a:xfrm>
        </p:grpSpPr>
        <p:sp>
          <p:nvSpPr>
            <p:cNvPr id="1056" name=""/>
            <p:cNvSpPr/>
            <p:nvPr/>
          </p:nvSpPr>
          <p:spPr>
            <a:xfrm>
              <a:off x="6653160" y="5049720"/>
              <a:ext cx="1681200" cy="2811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084400" y="5049720"/>
              <a:ext cx="3032280" cy="2811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62000" y="5049720"/>
              <a:ext cx="1752480" cy="2811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268960" y="5049720"/>
              <a:ext cx="1227240" cy="28404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 txBox="1"/>
          <p:nvPr/>
        </p:nvSpPr>
        <p:spPr>
          <a:xfrm>
            <a:off x="2054160" y="5060880"/>
            <a:ext cx="304956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81 FFT Data:  real or complex, order or fre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6627960" y="5094360"/>
            <a:ext cx="17845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83 Time Waveform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5300640" y="5062680"/>
            <a:ext cx="115416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 CPB Spec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95600" y="4119480"/>
            <a:ext cx="4048200" cy="247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4129200"/>
            <a:ext cx="495720" cy="427320"/>
          </a:xfrm>
          <a:custGeom>
            <a:avLst/>
            <a:gdLst/>
            <a:ahLst/>
            <a:rect l="0" t="0" r="r" b="b"/>
            <a:pathLst>
              <a:path w="1377" h="1187">
                <a:moveTo>
                  <a:pt x="0" y="869"/>
                </a:moveTo>
                <a:lnTo>
                  <a:pt x="371" y="869"/>
                </a:lnTo>
                <a:lnTo>
                  <a:pt x="371" y="0"/>
                </a:lnTo>
                <a:lnTo>
                  <a:pt x="1006" y="0"/>
                </a:lnTo>
                <a:lnTo>
                  <a:pt x="1006" y="869"/>
                </a:lnTo>
                <a:lnTo>
                  <a:pt x="1377" y="869"/>
                </a:lnTo>
                <a:lnTo>
                  <a:pt x="688" y="1187"/>
                </a:lnTo>
                <a:lnTo>
                  <a:pt x="0" y="86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59160" y="4133880"/>
            <a:ext cx="495720" cy="427320"/>
          </a:xfrm>
          <a:custGeom>
            <a:avLst/>
            <a:gdLst/>
            <a:ahLst/>
            <a:rect l="0" t="0" r="r" b="b"/>
            <a:pathLst>
              <a:path w="1377" h="1187">
                <a:moveTo>
                  <a:pt x="0" y="869"/>
                </a:moveTo>
                <a:lnTo>
                  <a:pt x="371" y="869"/>
                </a:lnTo>
                <a:lnTo>
                  <a:pt x="371" y="0"/>
                </a:lnTo>
                <a:lnTo>
                  <a:pt x="1006" y="0"/>
                </a:lnTo>
                <a:lnTo>
                  <a:pt x="1006" y="869"/>
                </a:lnTo>
                <a:lnTo>
                  <a:pt x="1377" y="869"/>
                </a:lnTo>
                <a:lnTo>
                  <a:pt x="688" y="1187"/>
                </a:lnTo>
                <a:lnTo>
                  <a:pt x="0" y="86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16920" y="4133880"/>
            <a:ext cx="495720" cy="427320"/>
          </a:xfrm>
          <a:custGeom>
            <a:avLst/>
            <a:gdLst/>
            <a:ahLst/>
            <a:rect l="0" t="0" r="r" b="b"/>
            <a:pathLst>
              <a:path w="1377" h="1187">
                <a:moveTo>
                  <a:pt x="0" y="869"/>
                </a:moveTo>
                <a:lnTo>
                  <a:pt x="371" y="869"/>
                </a:lnTo>
                <a:lnTo>
                  <a:pt x="371" y="0"/>
                </a:lnTo>
                <a:lnTo>
                  <a:pt x="1006" y="0"/>
                </a:lnTo>
                <a:lnTo>
                  <a:pt x="1006" y="869"/>
                </a:lnTo>
                <a:lnTo>
                  <a:pt x="1377" y="869"/>
                </a:lnTo>
                <a:lnTo>
                  <a:pt x="688" y="1187"/>
                </a:lnTo>
                <a:lnTo>
                  <a:pt x="0" y="86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529240"/>
            <a:ext cx="8915400" cy="7239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80880" y="3629160"/>
            <a:ext cx="4352760" cy="3049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66840" y="3638520"/>
            <a:ext cx="34909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 Source Signal Detection: RMS, peak, peak-to-pe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085840" y="4572000"/>
            <a:ext cx="6248520" cy="276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871800" y="4586400"/>
            <a:ext cx="26906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 Post Process Scaling: RMS, peak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109440" y="5862600"/>
            <a:ext cx="3000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  Frequency/Order-Related Alarm Set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Frequency/Order-Related Alarm Rec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6786720" y="5846760"/>
            <a:ext cx="2152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 Static Value Alarm Set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 Static Value Alarm Rec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967200" y="5472000"/>
            <a:ext cx="2101680" cy="8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Severity: 1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 Type: warning, alert, dan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46160" y="5030640"/>
            <a:ext cx="1909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75 Signal Processed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65360" y="0"/>
            <a:ext cx="495720" cy="528840"/>
          </a:xfrm>
          <a:custGeom>
            <a:avLst/>
            <a:gdLst/>
            <a:ahLst/>
            <a:rect l="0" t="0" r="r" b="b"/>
            <a:pathLst>
              <a:path w="1377" h="1469">
                <a:moveTo>
                  <a:pt x="0" y="1076"/>
                </a:moveTo>
                <a:lnTo>
                  <a:pt x="371" y="1076"/>
                </a:lnTo>
                <a:lnTo>
                  <a:pt x="371" y="0"/>
                </a:lnTo>
                <a:lnTo>
                  <a:pt x="1006" y="0"/>
                </a:lnTo>
                <a:lnTo>
                  <a:pt x="1006" y="1076"/>
                </a:lnTo>
                <a:lnTo>
                  <a:pt x="1377" y="1076"/>
                </a:lnTo>
                <a:lnTo>
                  <a:pt x="688" y="1469"/>
                </a:lnTo>
                <a:lnTo>
                  <a:pt x="0" y="107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 Bever</dc:creator>
  <dc:description/>
  <dc:language>en-US</dc:language>
  <cp:lastModifiedBy>kbever</cp:lastModifiedBy>
  <cp:revision>0</cp:revision>
  <dc:subject/>
  <dc:title>Optimizing the Value of Equipment Assets Through Data Integration</dc:title>
</cp:coreProperties>
</file>