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7A42-76DB-4CEB-AB22-2891E45BB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3156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B12D-579E-4E33-96F4-AAF36F517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1614-3940-4FB2-9A7F-FFE26F50F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2856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2856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3156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43156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43156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24C8-3218-4453-84BE-B8564662E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B2E8A-EFD2-41C5-886B-3B1CCB193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3C523-E1D6-4C80-88D9-46157ACCE1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F39BC-C609-4926-8F4A-0510F2CA67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89CC-CEA9-4B85-BDAE-C34FCB59AD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EFAE5-DB32-4BE8-8248-FBF0202A62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CD9FC-9F0E-40FA-AB82-09D80F8559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8CB80-60CC-4AED-8212-09D34A42D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1C28-FB64-4200-AA43-B284082C9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C3A4D-9AA7-4EE4-80AD-D99368417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56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015C9-D83D-4E17-AB2B-C39203CA3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3156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F7A3-13BB-48FC-AED0-78F7D9A8FC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72E63-D0BC-4D86-9E6F-8502BCEF92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4640" y="22856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5600" y="22856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3156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4640" y="43156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5600" y="43156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99F0-9D48-402B-8023-9D2A3A0E1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8476-077C-4769-B343-2FFAA14D5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43B4-6EBA-416B-BC4A-E9ABAC70F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8F7E-F755-47E4-890E-BC96FF177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588F-CF7B-42B2-BF37-53BB8041F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72A8-AD58-4617-B10B-21EA23F52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43156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7141-43F9-49AE-B203-AF1594D3B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2856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56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BEE6-64C7-4C37-B898-C7BAC999C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-2199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31920" indent="-17568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584000" indent="-17568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584000" indent="-17568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584000" indent="-17568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14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86600" y="63244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849-21CC-4AC5-844A-A7098C0DD9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3"/>
          </p:nvPr>
        </p:nvSpPr>
        <p:spPr>
          <a:xfrm>
            <a:off x="914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7315200" y="63244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0B84-E7A2-4A53-B7B6-FEBB784D30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MIMOSA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XML Server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abling MIMOSA Transactions on the We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hen Bards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LW In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FA34C-BC44-4366-AD72-BA37EA2FE7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Document Object Model</a:t>
            </a:r>
            <a:br>
              <a:rPr sz="4200"/>
            </a:b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DOM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M (Document Object Mode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O language neutral API to manage a doc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presents document as a tree of nod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des have attributes and behavi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98B6-3111-42FF-8442-856F402AA2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Document Object Model</a:t>
            </a:r>
            <a:br>
              <a:rPr sz="4200"/>
            </a:b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DOM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6" name="D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C93C-36E7-45E3-BE63-C876D0850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92720" y="2665440"/>
            <a:ext cx="3710160" cy="29145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80160" y="26906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CGI Scr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991120" y="3090960"/>
            <a:ext cx="2646360" cy="2031840"/>
            <a:chOff x="5991120" y="3090960"/>
            <a:chExt cx="2646360" cy="2031840"/>
          </a:xfrm>
        </p:grpSpPr>
        <p:sp>
          <p:nvSpPr>
            <p:cNvPr id="110" name=""/>
            <p:cNvSpPr/>
            <p:nvPr/>
          </p:nvSpPr>
          <p:spPr>
            <a:xfrm>
              <a:off x="7348680" y="3908520"/>
              <a:ext cx="1288800" cy="790560"/>
            </a:xfrm>
            <a:prstGeom prst="ellipse">
              <a:avLst/>
            </a:prstGeom>
            <a:solidFill>
              <a:srgbClr val="ffff3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ML Par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DOM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1120" y="4440240"/>
              <a:ext cx="1113120" cy="682560"/>
            </a:xfrm>
            <a:prstGeom prst="ellipse">
              <a:avLst/>
            </a:prstGeom>
            <a:solidFill>
              <a:srgbClr val="ffff3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erf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0280" y="3090960"/>
              <a:ext cx="1366920" cy="858600"/>
            </a:xfrm>
            <a:prstGeom prst="ellipse">
              <a:avLst/>
            </a:prstGeom>
            <a:solidFill>
              <a:srgbClr val="ffff3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ispatch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Req’s/Ack’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13" name=""/>
          <p:cNvCxnSpPr>
            <a:stCxn id="111" idx="0"/>
            <a:endCxn id="112" idx="4"/>
          </p:cNvCxnSpPr>
          <p:nvPr/>
        </p:nvCxnSpPr>
        <p:spPr>
          <a:xfrm flipH="1" flipV="1" rot="5400000">
            <a:off x="6426000" y="4071240"/>
            <a:ext cx="491400" cy="246960"/>
          </a:xfrm>
          <a:prstGeom prst="curvedConnector5">
            <a:avLst>
              <a:gd name="adj1" fmla="val 49780"/>
              <a:gd name="adj2" fmla="val 49927"/>
              <a:gd name="adj3" fmla="val 49780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>
            <a:stCxn id="112" idx="6"/>
            <a:endCxn id="110" idx="0"/>
          </p:cNvCxnSpPr>
          <p:nvPr/>
        </p:nvCxnSpPr>
        <p:spPr>
          <a:xfrm>
            <a:off x="7476840" y="3521160"/>
            <a:ext cx="516600" cy="38808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Component Integration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92680" y="2583000"/>
            <a:ext cx="1298520" cy="8236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17840" y="1935000"/>
            <a:ext cx="1577880" cy="952560"/>
          </a:xfrm>
          <a:prstGeom prst="cloudCallout">
            <a:avLst>
              <a:gd name="adj1" fmla="val -36115"/>
              <a:gd name="adj2" fmla="val 34333"/>
            </a:avLst>
          </a:prstGeom>
          <a:solidFill>
            <a:srgbClr val="ffa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82640" y="5670720"/>
            <a:ext cx="1206360" cy="852480"/>
            <a:chOff x="5282640" y="5670720"/>
            <a:chExt cx="1206360" cy="852480"/>
          </a:xfrm>
        </p:grpSpPr>
        <p:sp>
          <p:nvSpPr>
            <p:cNvPr id="119" name=""/>
            <p:cNvSpPr/>
            <p:nvPr/>
          </p:nvSpPr>
          <p:spPr>
            <a:xfrm>
              <a:off x="5286240" y="5670720"/>
              <a:ext cx="1197000" cy="85248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2640" y="5916600"/>
              <a:ext cx="1206360" cy="4910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QL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IMOSA Schem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21" name=""/>
          <p:cNvCxnSpPr>
            <a:stCxn id="116" idx="6"/>
            <a:endCxn id="112" idx="2"/>
          </p:cNvCxnSpPr>
          <p:nvPr/>
        </p:nvCxnSpPr>
        <p:spPr>
          <a:xfrm>
            <a:off x="5190840" y="2995560"/>
            <a:ext cx="919800" cy="526320"/>
          </a:xfrm>
          <a:prstGeom prst="curvedConnector5">
            <a:avLst>
              <a:gd name="adj1" fmla="val 49882"/>
              <a:gd name="adj2" fmla="val 49965"/>
              <a:gd name="adj3" fmla="val 49882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9" idx="1"/>
            <a:endCxn id="111" idx="4"/>
          </p:cNvCxnSpPr>
          <p:nvPr/>
        </p:nvCxnSpPr>
        <p:spPr>
          <a:xfrm flipH="1" flipV="1" rot="5400000">
            <a:off x="5942160" y="5064480"/>
            <a:ext cx="548640" cy="664200"/>
          </a:xfrm>
          <a:prstGeom prst="curvedConnector5">
            <a:avLst>
              <a:gd name="adj1" fmla="val 49835"/>
              <a:gd name="adj2" fmla="val 50000"/>
              <a:gd name="adj3" fmla="val 49835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7" idx="0"/>
            <a:endCxn id="116" idx="2"/>
          </p:cNvCxnSpPr>
          <p:nvPr/>
        </p:nvCxnSpPr>
        <p:spPr>
          <a:xfrm>
            <a:off x="3193560" y="2410920"/>
            <a:ext cx="699480" cy="585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1965240" y="3706920"/>
            <a:ext cx="1189080" cy="571320"/>
          </a:xfrm>
          <a:prstGeom prst="ellipse">
            <a:avLst/>
          </a:prstGeom>
          <a:solidFill>
            <a:srgbClr val="ffa26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17" idx="1"/>
          </p:cNvCxnSpPr>
          <p:nvPr/>
        </p:nvCxnSpPr>
        <p:spPr>
          <a:xfrm flipV="1" rot="16200000">
            <a:off x="2072880" y="3218760"/>
            <a:ext cx="821520" cy="154800"/>
          </a:xfrm>
          <a:prstGeom prst="curvedConnector5">
            <a:avLst>
              <a:gd name="adj1" fmla="val 49890"/>
              <a:gd name="adj2" fmla="val 49883"/>
              <a:gd name="adj3" fmla="val 49890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01560" y="3166920"/>
            <a:ext cx="1189080" cy="571680"/>
          </a:xfrm>
          <a:prstGeom prst="ellipse">
            <a:avLst/>
          </a:prstGeom>
          <a:solidFill>
            <a:srgbClr val="ffa26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17" idx="2"/>
          </p:cNvCxnSpPr>
          <p:nvPr/>
        </p:nvCxnSpPr>
        <p:spPr>
          <a:xfrm flipH="1" flipV="1" rot="5400000">
            <a:off x="1031760" y="2575800"/>
            <a:ext cx="756360" cy="42624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425760" y="23194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0520" y="28098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A3C1-AEF1-4D42-8CFB-E516DBF95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59080" y="1758960"/>
            <a:ext cx="5684760" cy="4006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06640" y="1797120"/>
            <a:ext cx="8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CGI Scr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9280" y="3154320"/>
            <a:ext cx="1288800" cy="790560"/>
          </a:xfrm>
          <a:prstGeom prst="ellipse">
            <a:avLst/>
          </a:prstGeom>
          <a:solidFill>
            <a:srgbClr val="ffff3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q. 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91440" y="4459320"/>
            <a:ext cx="1441440" cy="682560"/>
          </a:xfrm>
          <a:prstGeom prst="ellipse">
            <a:avLst/>
          </a:prstGeom>
          <a:solidFill>
            <a:srgbClr val="ffff3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3520" y="2514600"/>
            <a:ext cx="1366560" cy="858960"/>
          </a:xfrm>
          <a:prstGeom prst="ellipse">
            <a:avLst/>
          </a:prstGeom>
          <a:solidFill>
            <a:srgbClr val="ffff3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patch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Req’s/Ack’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Component Data Flow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6400" y="5500800"/>
            <a:ext cx="1206360" cy="852480"/>
            <a:chOff x="3506400" y="5500800"/>
            <a:chExt cx="1206360" cy="852480"/>
          </a:xfrm>
        </p:grpSpPr>
        <p:sp>
          <p:nvSpPr>
            <p:cNvPr id="137" name=""/>
            <p:cNvSpPr/>
            <p:nvPr/>
          </p:nvSpPr>
          <p:spPr>
            <a:xfrm>
              <a:off x="3510000" y="5500800"/>
              <a:ext cx="1197000" cy="85248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06400" y="5746680"/>
              <a:ext cx="1206360" cy="4910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QL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IMOSA Schem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39" name=""/>
          <p:cNvCxnSpPr>
            <a:stCxn id="140" idx="6"/>
            <a:endCxn id="134" idx="1"/>
          </p:cNvCxnSpPr>
          <p:nvPr/>
        </p:nvCxnSpPr>
        <p:spPr>
          <a:xfrm>
            <a:off x="2838600" y="2149560"/>
            <a:ext cx="1405440" cy="491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3"/>
            <a:endCxn id="133" idx="4"/>
          </p:cNvCxnSpPr>
          <p:nvPr/>
        </p:nvCxnSpPr>
        <p:spPr>
          <a:xfrm flipV="1">
            <a:off x="4682880" y="5141160"/>
            <a:ext cx="2429640" cy="84996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832200">
            <a:off x="3375720" y="2003040"/>
            <a:ext cx="71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GI Req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1880" y="1736640"/>
            <a:ext cx="2286720" cy="824040"/>
            <a:chOff x="551880" y="1736640"/>
            <a:chExt cx="2286720" cy="824040"/>
          </a:xfrm>
        </p:grpSpPr>
        <p:sp>
          <p:nvSpPr>
            <p:cNvPr id="140" name=""/>
            <p:cNvSpPr/>
            <p:nvPr/>
          </p:nvSpPr>
          <p:spPr>
            <a:xfrm>
              <a:off x="1540080" y="1736640"/>
              <a:ext cx="1298520" cy="8240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eb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320" y="18828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0" idx="2"/>
            </p:cNvCxnSpPr>
            <p:nvPr/>
          </p:nvCxnSpPr>
          <p:spPr>
            <a:xfrm flipH="1">
              <a:off x="551880" y="2149200"/>
              <a:ext cx="98820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6" name=""/>
          <p:cNvSpPr/>
          <p:nvPr/>
        </p:nvSpPr>
        <p:spPr>
          <a:xfrm rot="21342600">
            <a:off x="5306760" y="2101680"/>
            <a:ext cx="108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ML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05240" y="4376880"/>
            <a:ext cx="1289160" cy="790560"/>
          </a:xfrm>
          <a:prstGeom prst="ellipse">
            <a:avLst/>
          </a:prstGeom>
          <a:solidFill>
            <a:srgbClr val="ffff3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. 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5498600">
            <a:off x="3873600" y="3799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ML Ac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4" idx="0"/>
            <a:endCxn id="132" idx="0"/>
          </p:cNvCxnSpPr>
          <p:nvPr/>
        </p:nvCxnSpPr>
        <p:spPr>
          <a:xfrm flipH="1" rot="16200000">
            <a:off x="6100560" y="1140120"/>
            <a:ext cx="640440" cy="3386880"/>
          </a:xfrm>
          <a:prstGeom prst="curvedConnector5">
            <a:avLst>
              <a:gd name="adj1" fmla="val -35433"/>
              <a:gd name="adj2" fmla="val 49994"/>
              <a:gd name="adj3" fmla="val -3543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 rot="812400">
            <a:off x="5753520" y="2714760"/>
            <a:ext cx="153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uery Parame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34" idx="2"/>
            <a:endCxn id="140" idx="5"/>
          </p:cNvCxnSpPr>
          <p:nvPr/>
        </p:nvCxnSpPr>
        <p:spPr>
          <a:xfrm rot="10800000">
            <a:off x="2647080" y="2439360"/>
            <a:ext cx="1396440" cy="505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 rot="2595000">
            <a:off x="5288040" y="3738240"/>
            <a:ext cx="15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QL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33" idx="1"/>
            <a:endCxn id="134" idx="5"/>
          </p:cNvCxnSpPr>
          <p:nvPr/>
        </p:nvCxnSpPr>
        <p:spPr>
          <a:xfrm flipH="1" flipV="1">
            <a:off x="5209560" y="3247200"/>
            <a:ext cx="1392840" cy="1312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2" idx="1"/>
            <a:endCxn id="134" idx="7"/>
          </p:cNvCxnSpPr>
          <p:nvPr/>
        </p:nvCxnSpPr>
        <p:spPr>
          <a:xfrm flipH="1" flipV="1">
            <a:off x="5209920" y="2639160"/>
            <a:ext cx="2448720" cy="63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 rot="2586600">
            <a:off x="6266880" y="3317760"/>
            <a:ext cx="93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QL Que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33" idx="0"/>
            <a:endCxn id="134" idx="6"/>
          </p:cNvCxnSpPr>
          <p:nvPr/>
        </p:nvCxnSpPr>
        <p:spPr>
          <a:xfrm flipV="1" rot="16200000">
            <a:off x="5503320" y="2850120"/>
            <a:ext cx="1515240" cy="170280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7" name=""/>
          <p:cNvCxnSpPr>
            <a:stCxn id="147" idx="1"/>
            <a:endCxn id="134" idx="3"/>
          </p:cNvCxnSpPr>
          <p:nvPr/>
        </p:nvCxnSpPr>
        <p:spPr>
          <a:xfrm flipH="1" flipV="1">
            <a:off x="4242600" y="3247560"/>
            <a:ext cx="251640" cy="1245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34" idx="4"/>
            <a:endCxn id="147" idx="0"/>
          </p:cNvCxnSpPr>
          <p:nvPr/>
        </p:nvCxnSpPr>
        <p:spPr>
          <a:xfrm>
            <a:off x="4727520" y="3373200"/>
            <a:ext cx="223200" cy="1003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 rot="4720800">
            <a:off x="4600440" y="3719880"/>
            <a:ext cx="78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.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197000">
            <a:off x="2824560" y="2541600"/>
            <a:ext cx="69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GI Ac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34C6-F08F-4D86-B466-AE4DD1968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MIMOSA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XML Server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Fu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627F9-320F-4743-A233-746A7130E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XML Schema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future W3C recommend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pplants the function of a DT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ecify structur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ement and attribute nam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pecify element content data ty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pecify element and content constrai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Written in pure XML (vs. DTD syntax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AF06-8DA8-4EF5-96A9-182F67B42F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Simple Object Access Protocol</a:t>
            </a:r>
            <a:br>
              <a:rPr sz="42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(SOAP)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ables OO transactions via messag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es not rely on RP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s an envelope and processing mechanis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vides WWW Based Servic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future W3C recommend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33D7-520B-4E49-B99A-4F2B307BDF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Agenda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XML Server Construc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Fu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B2EA-2947-4EA4-9831-292700B4E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MIMOSA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XML Server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XML Server Construc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3F427-44B7-467B-92CA-1CFAC515D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XML Server Construction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MOSA Demo Server Approa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oosing a Technolog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rver Compon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onent Integ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onent Data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DDCA-7BF9-442C-BD19-E9F70C3BC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83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MIMOSA Demo Server Approach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MIMOSA vocabulary (DTD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a MIMOSA Databa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readily available softwa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apid develop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asily modifi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4C34-5986-4F41-B27C-24D1F7D01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83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MIMOSA Demo Server Approach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8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nsmit and receive XML via HTT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mple, well known protoc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ents are ubiquit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ew interoperability iss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 Widely available; through firewalls, etc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CGI for procedural contr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D3EB-1608-42B1-9A36-03000F06C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Choosing a Technology</a:t>
            </a:r>
            <a:br>
              <a:rPr sz="42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(almost too many options)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8480" y="1998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 server with CGI applic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rver side Java applic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$ Active Server Pages (ASP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mbedded Database function(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ustom applic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B031-4C65-4BFD-9D56-4110BD6F04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HTTP Transactions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mon Gateway Interface (CGI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ll popular web servers provide CG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gram runs when a request is receiv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grams typically use scripting languag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y program that can use STDIN/OU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me servers optimize CG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B1EA-8EE5-4F23-9374-ED897BD706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XML Server Components</a:t>
            </a:r>
            <a:endParaRPr b="0" lang="en-US" sz="4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 Ser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ustom CGI Scrip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quest Dispatch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ML Parser (DOM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atabase Interfa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QL Server (MIMOSA Databas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MOSA XML 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208E-A903-43AE-951E-B24155B3D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11:47:11Z</dcterms:created>
  <dc:creator>Stephen E. Bardsley</dc:creator>
  <dc:description/>
  <dc:language>en-US</dc:language>
  <cp:lastModifiedBy>Compaq</cp:lastModifiedBy>
  <cp:lastPrinted>2000-10-03T20:29:58Z</cp:lastPrinted>
  <dcterms:modified xsi:type="dcterms:W3CDTF">2001-04-25T14:47:11Z</dcterms:modified>
  <cp:revision>47</cp:revision>
  <dc:subject/>
  <dc:title>MIMOSA TECH-Net Workshop</dc:title>
</cp:coreProperties>
</file>