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1A6-9269-45BE-AF6E-62FBFE25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E90-8F52-4596-9C60-D93E0427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CB2-7A4A-478F-964E-87B251E8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D38-97DF-41E4-A522-7ECE0B90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043-DEC9-471D-A8B4-E3FF6CFF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136-46AF-484B-BE93-AA17ECA2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7E9-13A9-4A45-A4E6-1488E022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CFC-316F-4C0C-98E9-78351B85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95A-5E02-485D-8620-389F4019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F6B-DC0A-498A-ADDC-A073A8F3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725-5E2F-4D93-9AD5-2311C225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388-FC15-4382-8FDC-E2F9D4A4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CBB0-6E62-4779-902C-74DBE1920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4660920"/>
            <a:ext cx="320760" cy="320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041800"/>
            <a:ext cx="320760" cy="32076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184800"/>
            <a:ext cx="320760" cy="32076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300560"/>
            <a:ext cx="209376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-bui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5423040"/>
            <a:ext cx="320760" cy="320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803920"/>
            <a:ext cx="320760" cy="32076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8240" y="2716200"/>
            <a:ext cx="3864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0880" y="204840"/>
            <a:ext cx="6234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MOSA OSA-EAI Architectur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imosablsm2.gif"/>
          <p:cNvPicPr/>
          <p:nvPr/>
        </p:nvPicPr>
        <p:blipFill>
          <a:blip r:embed="rId1"/>
          <a:stretch/>
        </p:blipFill>
        <p:spPr>
          <a:xfrm>
            <a:off x="7900920" y="6419880"/>
            <a:ext cx="1243080" cy="43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5578560"/>
            <a:ext cx="3833640" cy="85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Categories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Times New Roman"/>
              </a:rPr>
              <a:t> [</a:t>
            </a:r>
            <a:r>
              <a:rPr b="1" i="1" lang="en-US" sz="1400" spc="-1" strike="noStrike" u="sng">
                <a:solidFill>
                  <a:srgbClr val="333399"/>
                </a:solidFill>
                <a:uFillTx/>
                <a:latin typeface="Times New Roman"/>
              </a:rPr>
              <a:t>Category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 Segm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“As Designed” Functional Bloc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“As Installed” Serialized Physical Obje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888840"/>
            <a:ext cx="768600" cy="6858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 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66960" y="888840"/>
            <a:ext cx="809640" cy="6858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73720" y="888840"/>
            <a:ext cx="788760" cy="6858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67160" y="888840"/>
            <a:ext cx="828720" cy="6858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888840"/>
            <a:ext cx="2895120" cy="685440"/>
            <a:chOff x="0" y="888840"/>
            <a:chExt cx="2895120" cy="685440"/>
          </a:xfrm>
        </p:grpSpPr>
        <p:sp>
          <p:nvSpPr>
            <p:cNvPr id="56" name=""/>
            <p:cNvSpPr/>
            <p:nvPr/>
          </p:nvSpPr>
          <p:spPr>
            <a:xfrm>
              <a:off x="1433880" y="888840"/>
              <a:ext cx="739080" cy="6854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Tech-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Q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 1.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of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8000" y="888840"/>
              <a:ext cx="717120" cy="6854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Tech-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Q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 1.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of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888840"/>
              <a:ext cx="739080" cy="6854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Tech-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 1.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of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3760" y="888840"/>
              <a:ext cx="717120" cy="68544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Tech-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 1.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of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-12600" y="1574640"/>
            <a:ext cx="2895120" cy="685800"/>
            <a:chOff x="-12600" y="1574640"/>
            <a:chExt cx="2895120" cy="685800"/>
          </a:xfrm>
        </p:grpSpPr>
        <p:sp>
          <p:nvSpPr>
            <p:cNvPr id="61" name=""/>
            <p:cNvSpPr/>
            <p:nvPr/>
          </p:nvSpPr>
          <p:spPr>
            <a:xfrm>
              <a:off x="1441440" y="1574640"/>
              <a:ext cx="718560" cy="685800"/>
            </a:xfrm>
            <a:prstGeom prst="rect">
              <a:avLst/>
            </a:prstGeom>
            <a:solidFill>
              <a:srgbClr val="99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Tech-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Q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 1.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pe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74040" y="1574640"/>
              <a:ext cx="708480" cy="685800"/>
            </a:xfrm>
            <a:prstGeom prst="rect">
              <a:avLst/>
            </a:prstGeom>
            <a:solidFill>
              <a:srgbClr val="99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Tech-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Q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 1.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pe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12600" y="1574640"/>
              <a:ext cx="718560" cy="685800"/>
            </a:xfrm>
            <a:prstGeom prst="rect">
              <a:avLst/>
            </a:prstGeom>
            <a:solidFill>
              <a:srgbClr val="99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Tech-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 1.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pe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9640" y="1574640"/>
              <a:ext cx="708120" cy="685800"/>
            </a:xfrm>
            <a:prstGeom prst="rect">
              <a:avLst/>
            </a:prstGeom>
            <a:solidFill>
              <a:srgbClr val="99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Tech-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 1.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pe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895480" y="1574640"/>
            <a:ext cx="792360" cy="68580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. [XSD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6160" y="1574640"/>
            <a:ext cx="825480" cy="68580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. [XSD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2800" y="1574640"/>
            <a:ext cx="787320" cy="68580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. [XSD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3120" y="1574640"/>
            <a:ext cx="842760" cy="68580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. [XSD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2260440"/>
            <a:ext cx="2895120" cy="690840"/>
            <a:chOff x="0" y="2260440"/>
            <a:chExt cx="2895120" cy="690840"/>
          </a:xfrm>
        </p:grpSpPr>
        <p:sp>
          <p:nvSpPr>
            <p:cNvPr id="70" name=""/>
            <p:cNvSpPr/>
            <p:nvPr/>
          </p:nvSpPr>
          <p:spPr>
            <a:xfrm>
              <a:off x="1447560" y="2260440"/>
              <a:ext cx="1447560" cy="690840"/>
            </a:xfrm>
            <a:prstGeom prst="rect">
              <a:avLst/>
            </a:prstGeom>
            <a:solidFill>
              <a:srgbClr val="99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DBC SQL/C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260440"/>
              <a:ext cx="1447560" cy="690840"/>
            </a:xfrm>
            <a:prstGeom prst="rect">
              <a:avLst/>
            </a:prstGeom>
            <a:solidFill>
              <a:srgbClr val="99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IMOSA 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(MED) 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0" y="3403440"/>
            <a:ext cx="2895480" cy="53352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on Relation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hema V1.1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963880"/>
            <a:ext cx="2895480" cy="46980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MOSA Site0 Reference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1.1 [M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09880" y="2951280"/>
            <a:ext cx="6232680" cy="54108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IS Site0 Reference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2.2 [XML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3403440"/>
            <a:ext cx="6247080" cy="53352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on Relational Information Schema (CRIS) V2.2 Specification [XS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1574640"/>
            <a:ext cx="762120" cy="71136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936960"/>
            <a:ext cx="9144000" cy="44136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SA-EAI Terminology Dictionary [PDF] &amp; OSA-EAI Common Conceptual Object Model (CCOM) [UML] V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05200" y="2260440"/>
            <a:ext cx="6238800" cy="682920"/>
          </a:xfrm>
          <a:prstGeom prst="rect">
            <a:avLst/>
          </a:prstGeom>
          <a:solidFill>
            <a:srgbClr val="99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c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X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ent/Server Schema V2.2 [XS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4530600"/>
            <a:ext cx="2993760" cy="1792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Times New Roman"/>
              </a:rPr>
              <a:t>Packaged Technologies [</a:t>
            </a:r>
            <a:r>
              <a:rPr b="1" i="1" lang="en-US" sz="1600" spc="-1" strike="noStrike" u="sng">
                <a:solidFill>
                  <a:srgbClr val="333399"/>
                </a:solidFill>
                <a:uFillTx/>
                <a:latin typeface="Times New Roman"/>
              </a:rPr>
              <a:t>Tech-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 (Asset Register Manageme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RK (Work Manag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AG (Diagnostics / Health / Rec.)</a:t>
            </a: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END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Static Trends/Ala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YN (Dynamic Vibration/S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MPLE (Oil/Fluid/Gas/Solid Te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B (Binary Data/Thermograph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 (Reliability /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75680" y="660240"/>
            <a:ext cx="1699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vised April 30,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34240" y="1574640"/>
            <a:ext cx="704880" cy="68580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-O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8200" y="1569960"/>
            <a:ext cx="755640" cy="68436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13840" y="1568520"/>
            <a:ext cx="830160" cy="68580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-X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02360" y="888840"/>
            <a:ext cx="741240" cy="6843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5400" y="888840"/>
            <a:ext cx="718920" cy="6858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-O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4960" y="888840"/>
            <a:ext cx="750960" cy="6796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05920" y="882720"/>
            <a:ext cx="863640" cy="6858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Tech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-X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e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07:32:21Z</dcterms:created>
  <dc:creator>Ken Bever</dc:creator>
  <dc:description/>
  <dc:language>en-US</dc:language>
  <cp:lastModifiedBy>Ken Bever</cp:lastModifiedBy>
  <dcterms:modified xsi:type="dcterms:W3CDTF">2003-04-30T04:27:16Z</dcterms:modified>
  <cp:revision>5</cp:revision>
  <dc:subject/>
  <dc:title>MIMOSA OSA-EAI  Architecture Summary</dc:title>
</cp:coreProperties>
</file>