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451-8E7C-4753-837E-6CEF5608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CF4-65DD-440A-9DB3-0871B6B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CC1-F7C9-4816-A8EB-E9B92BD9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E10-07D0-42F0-9F33-FFF5AAF7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1CE-E94D-441C-B5C5-36719A9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423-533E-4068-9CBB-34DF4E94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5CC-865B-42D8-B289-5A87442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B68-76E4-4718-BA0F-4EB991B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B22-475F-4287-ACBE-2AF46C06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5CE-F4C6-462E-BB78-2B69919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CF8-9926-4DDE-9F7B-7648FBC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F5B-807E-49B6-A187-891967EF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5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8809-C902-4D69-85F1-D42A7B7B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38862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e Template Revisions for CRIS v3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Wa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g Mc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e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two slides show revisions to CRIS for v3.0 which accommodate fleets of vehicles as well as an example of how it could be used for Stry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s are represented as sites in this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a includes the capability to save site templates that can be instantiated for individual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lso create one template from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33720" y="914400"/>
            <a:ext cx="2209680" cy="57913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57200"/>
            <a:ext cx="601992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revisions for MIMOSA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19320"/>
            <a:ext cx="1523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19320"/>
            <a:ext cx="1523880" cy="209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219320"/>
            <a:ext cx="15238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e_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pris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e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db_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db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type_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_tag_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s_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late_y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371600"/>
            <a:ext cx="1676160" cy="85536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ite_code now contains both the enterprise_id and site_id as a 16 character hex st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/>
          <p:nvPr/>
        </p:nvCxnSpPr>
        <p:spPr>
          <a:xfrm flipV="1">
            <a:off x="1752480" y="1337760"/>
            <a:ext cx="991440" cy="480240"/>
          </a:xfrm>
          <a:prstGeom prst="curvedConnector5">
            <a:avLst>
              <a:gd name="adj1" fmla="val 49981"/>
              <a:gd name="adj2" fmla="val 49962"/>
              <a:gd name="adj3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76320" y="2260440"/>
            <a:ext cx="1676160" cy="13122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ite type code columns (st_*) are a foreign key used to associated a Site with a Site_Type.  This allows you to group Site’s into related categories for repor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4538520"/>
            <a:ext cx="1676160" cy="161676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emplate_yn field is used to define whether or not a particular Site instance is to be used as a template.  Creating Site templates allows you to predefine characteristics of a Site that are automatically created for a new Site in that categ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/>
          <p:nvPr/>
        </p:nvCxnSpPr>
        <p:spPr>
          <a:xfrm flipH="1" flipV="1" rot="5400000">
            <a:off x="928440" y="3642840"/>
            <a:ext cx="27154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029200" y="1138320"/>
            <a:ext cx="2209680" cy="16761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_Typ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461960"/>
            <a:ext cx="152388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4479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db_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db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type_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_y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143000"/>
            <a:ext cx="1676160" cy="85536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ite Type Table is used to define a new Site Type.  Site Type’s form a hierarchical structure that Sites belong 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1"/>
            <a:endCxn id="57" idx="3"/>
          </p:cNvCxnSpPr>
          <p:nvPr/>
        </p:nvCxnSpPr>
        <p:spPr>
          <a:xfrm flipV="1" rot="10800000">
            <a:off x="7009560" y="1573200"/>
            <a:ext cx="38196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029200" y="3276720"/>
            <a:ext cx="2209680" cy="16002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_Type_Child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523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657600"/>
            <a:ext cx="15238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809880"/>
            <a:ext cx="15238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657600"/>
            <a:ext cx="1523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db_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db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_type_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_st_db_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_st_db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_st_type_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327480"/>
            <a:ext cx="1676160" cy="13122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ite Type Child Table is used to create relationships within the Site Type Table.  This allows you to create parent-child relationships that allow further detail in a particular categ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6" idx="1"/>
            <a:endCxn id="64" idx="3"/>
          </p:cNvCxnSpPr>
          <p:nvPr/>
        </p:nvCxnSpPr>
        <p:spPr>
          <a:xfrm rot="10800000">
            <a:off x="7009560" y="3913920"/>
            <a:ext cx="381960" cy="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63" idx="3"/>
          </p:cNvCxnSpPr>
          <p:nvPr/>
        </p:nvCxnSpPr>
        <p:spPr>
          <a:xfrm rot="10800000">
            <a:off x="7009560" y="3761640"/>
            <a:ext cx="381960" cy="226080"/>
          </a:xfrm>
          <a:prstGeom prst="curvedConnector5">
            <a:avLst>
              <a:gd name="adj1" fmla="val 50000"/>
              <a:gd name="adj2" fmla="val 4992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728880" y="1819440"/>
            <a:ext cx="152640" cy="30456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4729320"/>
            <a:ext cx="7398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2671920"/>
            <a:ext cx="7398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9" idx="1"/>
            <a:endCxn id="56" idx="1"/>
          </p:cNvCxnSpPr>
          <p:nvPr/>
        </p:nvCxnSpPr>
        <p:spPr>
          <a:xfrm>
            <a:off x="3881520" y="1971360"/>
            <a:ext cx="1148040" cy="540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65" idx="1"/>
            <a:endCxn id="58" idx="1"/>
          </p:cNvCxnSpPr>
          <p:nvPr/>
        </p:nvCxnSpPr>
        <p:spPr>
          <a:xfrm flipH="1" rot="10800000">
            <a:off x="5486040" y="1866240"/>
            <a:ext cx="2160" cy="2286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V="1">
            <a:off x="1779480" y="1837800"/>
            <a:ext cx="991440" cy="480240"/>
          </a:xfrm>
          <a:prstGeom prst="curvedConnector5">
            <a:avLst>
              <a:gd name="adj1" fmla="val 49981"/>
              <a:gd name="adj2" fmla="val 49962"/>
              <a:gd name="adj3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238520" y="4343400"/>
            <a:ext cx="1067400" cy="1417680"/>
            <a:chOff x="7238520" y="4343400"/>
            <a:chExt cx="1067400" cy="1417680"/>
          </a:xfrm>
        </p:grpSpPr>
        <p:sp>
          <p:nvSpPr>
            <p:cNvPr id="76" name=""/>
            <p:cNvSpPr/>
            <p:nvPr/>
          </p:nvSpPr>
          <p:spPr>
            <a:xfrm>
              <a:off x="7251840" y="4389480"/>
              <a:ext cx="105408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38520" y="43434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7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560" y="4724280"/>
            <a:ext cx="1067040" cy="1417680"/>
            <a:chOff x="7162560" y="4724280"/>
            <a:chExt cx="1067040" cy="1417680"/>
          </a:xfrm>
        </p:grpSpPr>
        <p:sp>
          <p:nvSpPr>
            <p:cNvPr id="79" name=""/>
            <p:cNvSpPr/>
            <p:nvPr/>
          </p:nvSpPr>
          <p:spPr>
            <a:xfrm>
              <a:off x="7176240" y="4770360"/>
              <a:ext cx="105336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62560" y="4724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7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V="1">
            <a:off x="5867280" y="1219320"/>
            <a:ext cx="0" cy="533376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124080"/>
            <a:ext cx="106704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y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124080"/>
            <a:ext cx="106704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133720"/>
            <a:ext cx="9907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191120"/>
            <a:ext cx="9907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1752480"/>
            <a:ext cx="99072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362320"/>
            <a:ext cx="990720" cy="3045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3429000"/>
            <a:ext cx="99072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4114800"/>
            <a:ext cx="99072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57200"/>
            <a:ext cx="335268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lates are develop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volve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8760" y="1219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086600" y="1219320"/>
            <a:ext cx="0" cy="533376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4040" y="1219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381880" y="1219320"/>
            <a:ext cx="0" cy="533376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728800"/>
            <a:ext cx="99072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1752480"/>
            <a:ext cx="99072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.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86" idx="3"/>
            <a:endCxn id="96" idx="1"/>
          </p:cNvCxnSpPr>
          <p:nvPr/>
        </p:nvCxnSpPr>
        <p:spPr>
          <a:xfrm>
            <a:off x="6934320" y="19047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387360" y="825480"/>
            <a:ext cx="41148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Typ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943240" y="4724280"/>
            <a:ext cx="1067040" cy="1417680"/>
            <a:chOff x="5943240" y="4724280"/>
            <a:chExt cx="1067040" cy="1417680"/>
          </a:xfrm>
        </p:grpSpPr>
        <p:sp>
          <p:nvSpPr>
            <p:cNvPr id="100" name=""/>
            <p:cNvSpPr/>
            <p:nvPr/>
          </p:nvSpPr>
          <p:spPr>
            <a:xfrm>
              <a:off x="5956920" y="4770360"/>
              <a:ext cx="105336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3240" y="4724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#7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419000" y="4906800"/>
            <a:ext cx="2392920" cy="1417680"/>
            <a:chOff x="4419000" y="4906800"/>
            <a:chExt cx="2392920" cy="1417680"/>
          </a:xfrm>
        </p:grpSpPr>
        <p:grpSp>
          <p:nvGrpSpPr>
            <p:cNvPr id="103" name=""/>
            <p:cNvGrpSpPr/>
            <p:nvPr/>
          </p:nvGrpSpPr>
          <p:grpSpPr>
            <a:xfrm>
              <a:off x="4419000" y="4906800"/>
              <a:ext cx="2392920" cy="1417680"/>
              <a:chOff x="4419000" y="4906800"/>
              <a:chExt cx="2392920" cy="141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4449600" y="4952880"/>
                <a:ext cx="236232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19000" y="49068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#74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639040" y="5562720"/>
              <a:ext cx="1066680" cy="634320"/>
              <a:chOff x="5639040" y="5562720"/>
              <a:chExt cx="1066680" cy="634320"/>
            </a:xfrm>
          </p:grpSpPr>
          <p:sp>
            <p:nvSpPr>
              <p:cNvPr id="107" name=""/>
              <p:cNvSpPr/>
              <p:nvPr/>
            </p:nvSpPr>
            <p:spPr>
              <a:xfrm>
                <a:off x="5715000" y="5837040"/>
                <a:ext cx="990720" cy="360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ew Compart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gine Bl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39040" y="5562720"/>
                <a:ext cx="91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g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571280" y="5562720"/>
              <a:ext cx="1067400" cy="634320"/>
              <a:chOff x="4571280" y="5562720"/>
              <a:chExt cx="1067400" cy="634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647960" y="5837040"/>
                <a:ext cx="990720" cy="360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rew Compart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gine Bl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71280" y="5562720"/>
                <a:ext cx="68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249600" y="4952880"/>
              <a:ext cx="528120" cy="609840"/>
              <a:chOff x="6249600" y="4952880"/>
              <a:chExt cx="528120" cy="609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4840" y="5257800"/>
                <a:ext cx="228600" cy="2286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401160" y="5334120"/>
                <a:ext cx="228600" cy="2286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9600" y="4952880"/>
                <a:ext cx="52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B’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16" name=""/>
          <p:cNvCxnSpPr>
            <a:stCxn id="86" idx="3"/>
            <a:endCxn id="100" idx="0"/>
          </p:cNvCxnSpPr>
          <p:nvPr/>
        </p:nvCxnSpPr>
        <p:spPr>
          <a:xfrm flipH="1">
            <a:off x="6482520" y="1904760"/>
            <a:ext cx="451800" cy="2865960"/>
          </a:xfrm>
          <a:prstGeom prst="bentConnector4">
            <a:avLst>
              <a:gd name="adj1" fmla="val -16826"/>
              <a:gd name="adj2" fmla="val 954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96" idx="3"/>
            <a:endCxn id="79" idx="0"/>
          </p:cNvCxnSpPr>
          <p:nvPr/>
        </p:nvCxnSpPr>
        <p:spPr>
          <a:xfrm flipH="1">
            <a:off x="7702200" y="1904760"/>
            <a:ext cx="527760" cy="2865960"/>
          </a:xfrm>
          <a:prstGeom prst="bentConnector4">
            <a:avLst>
              <a:gd name="adj1" fmla="val -22525"/>
              <a:gd name="adj2" fmla="val 954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8610480" y="1143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5100480"/>
            <a:ext cx="165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Each vehicle “insta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inherits defaul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50"/>
                </a:solidFill>
                <a:latin typeface="Arial"/>
              </a:rPr>
              <a:t>from the tem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733920"/>
            <a:ext cx="137160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4191120"/>
            <a:ext cx="374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can be broken into categories using Site Types.  Site Types also contain parent-child relationships to form a hierarc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952880"/>
            <a:ext cx="1371600" cy="3812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657600"/>
            <a:ext cx="396252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410080"/>
            <a:ext cx="380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Templates are used to define default information that should be included with each new site instance.  Each Site Template is linked to a Site Type (many templates can belong to a single site type), and each new vehicle instance can use this template information to pre-populate databas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89" idx="3"/>
            <a:endCxn id="76" idx="0"/>
          </p:cNvCxnSpPr>
          <p:nvPr/>
        </p:nvCxnSpPr>
        <p:spPr>
          <a:xfrm>
            <a:off x="6934320" y="4267080"/>
            <a:ext cx="8452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flipV="1" rot="10800000">
            <a:off x="4952520" y="1219320"/>
            <a:ext cx="685800" cy="264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C-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10800000">
            <a:off x="4952520" y="1522800"/>
            <a:ext cx="685800" cy="265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 rot="10800000">
            <a:off x="4949640" y="1828800"/>
            <a:ext cx="688680" cy="264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0000">
            <a:off x="4949640" y="2133720"/>
            <a:ext cx="688680" cy="264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0800000">
            <a:off x="4952520" y="2437200"/>
            <a:ext cx="685800" cy="265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10800000">
            <a:off x="4952520" y="2743200"/>
            <a:ext cx="685800" cy="264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10800000">
            <a:off x="4952520" y="3048120"/>
            <a:ext cx="685800" cy="264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 rot="10800000">
            <a:off x="4952520" y="3351600"/>
            <a:ext cx="685800" cy="265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 rot="10800000">
            <a:off x="4952520" y="3657600"/>
            <a:ext cx="685800" cy="264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82" idx="3"/>
            <a:endCxn id="84" idx="1"/>
          </p:cNvCxnSpPr>
          <p:nvPr/>
        </p:nvCxnSpPr>
        <p:spPr>
          <a:xfrm flipV="1">
            <a:off x="3276720" y="2323800"/>
            <a:ext cx="381600" cy="9914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82" idx="3"/>
            <a:endCxn id="85" idx="1"/>
          </p:cNvCxnSpPr>
          <p:nvPr/>
        </p:nvCxnSpPr>
        <p:spPr>
          <a:xfrm>
            <a:off x="3276360" y="3314520"/>
            <a:ext cx="1448280" cy="1067400"/>
          </a:xfrm>
          <a:prstGeom prst="bentConnector3">
            <a:avLst>
              <a:gd name="adj1" fmla="val 735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84" idx="3"/>
            <a:endCxn id="126" idx="3"/>
          </p:cNvCxnSpPr>
          <p:nvPr/>
        </p:nvCxnSpPr>
        <p:spPr>
          <a:xfrm flipV="1">
            <a:off x="4648320" y="1350360"/>
            <a:ext cx="305280" cy="973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84" idx="3"/>
            <a:endCxn id="127" idx="3"/>
          </p:cNvCxnSpPr>
          <p:nvPr/>
        </p:nvCxnSpPr>
        <p:spPr>
          <a:xfrm flipV="1">
            <a:off x="4648320" y="1654920"/>
            <a:ext cx="305280" cy="66924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84" idx="3"/>
            <a:endCxn id="128" idx="3"/>
          </p:cNvCxnSpPr>
          <p:nvPr/>
        </p:nvCxnSpPr>
        <p:spPr>
          <a:xfrm flipV="1">
            <a:off x="4648320" y="1960200"/>
            <a:ext cx="302400" cy="364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4" idx="3"/>
            <a:endCxn id="129" idx="3"/>
          </p:cNvCxnSpPr>
          <p:nvPr/>
        </p:nvCxnSpPr>
        <p:spPr>
          <a:xfrm flipV="1">
            <a:off x="4648320" y="2264760"/>
            <a:ext cx="302400" cy="594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84" idx="3"/>
            <a:endCxn id="130" idx="3"/>
          </p:cNvCxnSpPr>
          <p:nvPr/>
        </p:nvCxnSpPr>
        <p:spPr>
          <a:xfrm>
            <a:off x="4648320" y="2323800"/>
            <a:ext cx="305280" cy="2466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84" idx="3"/>
            <a:endCxn id="131" idx="3"/>
          </p:cNvCxnSpPr>
          <p:nvPr/>
        </p:nvCxnSpPr>
        <p:spPr>
          <a:xfrm>
            <a:off x="4648320" y="2324160"/>
            <a:ext cx="305280" cy="5515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84" idx="3"/>
            <a:endCxn id="132" idx="3"/>
          </p:cNvCxnSpPr>
          <p:nvPr/>
        </p:nvCxnSpPr>
        <p:spPr>
          <a:xfrm>
            <a:off x="4648320" y="2323800"/>
            <a:ext cx="305280" cy="85644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84" idx="3"/>
            <a:endCxn id="133" idx="3"/>
          </p:cNvCxnSpPr>
          <p:nvPr/>
        </p:nvCxnSpPr>
        <p:spPr>
          <a:xfrm>
            <a:off x="4648320" y="2323800"/>
            <a:ext cx="305280" cy="11610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84" idx="3"/>
            <a:endCxn id="134" idx="3"/>
          </p:cNvCxnSpPr>
          <p:nvPr/>
        </p:nvCxnSpPr>
        <p:spPr>
          <a:xfrm>
            <a:off x="4648320" y="2324160"/>
            <a:ext cx="305280" cy="14659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85" idx="3"/>
            <a:endCxn id="89" idx="1"/>
          </p:cNvCxnSpPr>
          <p:nvPr/>
        </p:nvCxnSpPr>
        <p:spPr>
          <a:xfrm flipV="1">
            <a:off x="5714640" y="426672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5943600" y="3048120"/>
            <a:ext cx="990720" cy="3045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2" idx="1"/>
            <a:endCxn id="147" idx="1"/>
          </p:cNvCxnSpPr>
          <p:nvPr/>
        </p:nvCxnSpPr>
        <p:spPr>
          <a:xfrm>
            <a:off x="5636880" y="3179520"/>
            <a:ext cx="306720" cy="20880"/>
          </a:xfrm>
          <a:prstGeom prst="bentConnector3">
            <a:avLst>
              <a:gd name="adj1" fmla="val 502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2" idx="1"/>
            <a:endCxn id="88" idx="1"/>
          </p:cNvCxnSpPr>
          <p:nvPr/>
        </p:nvCxnSpPr>
        <p:spPr>
          <a:xfrm>
            <a:off x="5636880" y="3179520"/>
            <a:ext cx="306720" cy="402120"/>
          </a:xfrm>
          <a:prstGeom prst="bentConnector3">
            <a:avLst>
              <a:gd name="adj1" fmla="val 502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1"/>
            <a:endCxn id="87" idx="1"/>
          </p:cNvCxnSpPr>
          <p:nvPr/>
        </p:nvCxnSpPr>
        <p:spPr>
          <a:xfrm flipV="1">
            <a:off x="5636880" y="2514240"/>
            <a:ext cx="306720" cy="56160"/>
          </a:xfrm>
          <a:prstGeom prst="bentConnector3">
            <a:avLst>
              <a:gd name="adj1" fmla="val 502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26" idx="1"/>
            <a:endCxn id="86" idx="1"/>
          </p:cNvCxnSpPr>
          <p:nvPr/>
        </p:nvCxnSpPr>
        <p:spPr>
          <a:xfrm>
            <a:off x="5636880" y="1350720"/>
            <a:ext cx="306720" cy="554760"/>
          </a:xfrm>
          <a:prstGeom prst="bentConnector3">
            <a:avLst>
              <a:gd name="adj1" fmla="val 502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1" idx="1"/>
            <a:endCxn id="95" idx="1"/>
          </p:cNvCxnSpPr>
          <p:nvPr/>
        </p:nvCxnSpPr>
        <p:spPr>
          <a:xfrm>
            <a:off x="5638320" y="2874960"/>
            <a:ext cx="160092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4:50:19Z</dcterms:created>
  <dc:creator>test</dc:creator>
  <dc:description/>
  <dc:language>en-US</dc:language>
  <cp:lastModifiedBy>Ken Bever</cp:lastModifiedBy>
  <dcterms:modified xsi:type="dcterms:W3CDTF">2004-03-17T16:40:51Z</dcterms:modified>
  <cp:revision>20</cp:revision>
  <dc:subject/>
  <dc:title>Slide 1</dc:title>
</cp:coreProperties>
</file>