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F169-745A-4561-BA85-20DCADEC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DB5-C7C0-4447-8AE7-8D4B6EB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D3E5-1609-45EB-9172-B37652DB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AD94-6752-4581-BACA-B86AC733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78BB-039B-4F72-94A2-4EB9B68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401F-4499-4209-BC94-7CB09029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8CFF-4A3E-4247-BBAA-4B24B6A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D500-22E8-4CFE-A523-E8B37EA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1A1B-DE99-4B94-A59F-BF9C2CB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F65-7349-4581-BDD0-D3BC7A16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730-0C25-47CE-8C44-D3DD0A3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2BD4-F82C-4A98-8006-30BB454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9C3-9E6A-4B11-8AE5-31098867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E1B9-A6C9-43A6-AA27-68DF910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73C-715C-42A3-ABB9-94B92C48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1B8-AE66-4A83-905A-737126CF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51EA-7ECC-4790-9435-8CADCFFC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1CFB-D75F-4EF9-B992-7608748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D367-722B-4A0E-AAA1-F5C7642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4A74-60F8-4FC4-B0CF-B7E3E36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D9A1-C3DC-44CB-9CB2-59373A49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EC9B-3269-455E-A0C0-E41D8D0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4678-ED2B-48A2-AE9F-96D105DA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AA28-76DB-4438-8F68-98E791A2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075-F3A9-4A61-93C6-8BE0E804D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36D-6731-4212-ADF5-FCD84C082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mailto:rlw9@psu.edu" TargetMode="External"/><Relationship Id="rId3" Type="http://schemas.openxmlformats.org/officeDocument/2006/relationships/hyperlink" Target="mailto:clp207@psu.edu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8288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MOSA OSA-EAI Tech-C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505320" cy="110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320" y="4648320"/>
            <a:ext cx="4495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Wal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, Applied Enterprise Systems Department</a:t>
            </a:r>
            <a:br>
              <a:rPr sz="1600"/>
            </a:b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lw9@psu.edu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14-863-88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MOSA OSA-EAI Tech-C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committee Chai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6483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 Pi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Research Engineer </a:t>
            </a:r>
            <a:br>
              <a:rPr sz="1600"/>
            </a:b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lp207@psu.edu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14-865-2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Document Exchan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ech-C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OSA-EAI Tech-CDE General Read and Write sch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suggestions from April 2005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ommittee made further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OSA-EAI Tech-CDE General Read and Write Web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d that the Web Service can process the new CDE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by an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, &gt;, &lt;,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using multip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results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ny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nd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complex and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371600"/>
            <a:ext cx="4876920" cy="483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Schema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as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ase_params include="0" include_fk_tables="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_n_data="10" order_by="gmt_last_updated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ase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ite site_code="000000000000000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ase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egment include="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in_maxTYPE column_name="segment_id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_value="0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as_location include="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as_event include="1" last_n_data="5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_by="gmt_last_updated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in_max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_name="dqual_type_cod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_value="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as_ev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as_loc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segm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return_row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1880"/>
                <a:tab algn="l" pos="682560"/>
                <a:tab algn="l" pos="914400"/>
                <a:tab algn="l" pos="114624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as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hip to CRIS 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000" y="2362320"/>
            <a:ext cx="1904760" cy="99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705720" y="4114800"/>
            <a:ext cx="121896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05000" y="5486400"/>
            <a:ext cx="1066680" cy="9144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8680" y="5562720"/>
            <a:ext cx="1066680" cy="9144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85480" y="5410080"/>
            <a:ext cx="114300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7880" y="5410080"/>
            <a:ext cx="114300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E Addition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66160" y="5410080"/>
            <a:ext cx="114300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47200" y="5410080"/>
            <a:ext cx="114300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ab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7880" y="4114800"/>
            <a:ext cx="114300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200" y="4114800"/>
            <a:ext cx="114300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666160" y="4114800"/>
            <a:ext cx="114300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85480" y="4114800"/>
            <a:ext cx="114300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628680" y="4191120"/>
            <a:ext cx="121932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52360" y="4267080"/>
            <a:ext cx="1219320" cy="838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7" idx="2"/>
            <a:endCxn id="130" idx="0"/>
          </p:cNvCxnSpPr>
          <p:nvPr/>
        </p:nvCxnSpPr>
        <p:spPr>
          <a:xfrm>
            <a:off x="5372280" y="3351240"/>
            <a:ext cx="179136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7" idx="2"/>
            <a:endCxn id="128" idx="0"/>
          </p:cNvCxnSpPr>
          <p:nvPr/>
        </p:nvCxnSpPr>
        <p:spPr>
          <a:xfrm flipH="1">
            <a:off x="4457520" y="3350880"/>
            <a:ext cx="9151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7" idx="2"/>
            <a:endCxn id="127" idx="0"/>
          </p:cNvCxnSpPr>
          <p:nvPr/>
        </p:nvCxnSpPr>
        <p:spPr>
          <a:xfrm flipH="1">
            <a:off x="3237840" y="3350880"/>
            <a:ext cx="213444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7" idx="2"/>
            <a:endCxn id="126" idx="0"/>
          </p:cNvCxnSpPr>
          <p:nvPr/>
        </p:nvCxnSpPr>
        <p:spPr>
          <a:xfrm flipH="1">
            <a:off x="2018880" y="3350880"/>
            <a:ext cx="335376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7" idx="2"/>
            <a:endCxn id="125" idx="0"/>
          </p:cNvCxnSpPr>
          <p:nvPr/>
        </p:nvCxnSpPr>
        <p:spPr>
          <a:xfrm flipH="1">
            <a:off x="799920" y="3350880"/>
            <a:ext cx="45727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8" idx="2"/>
            <a:endCxn id="121" idx="0"/>
          </p:cNvCxnSpPr>
          <p:nvPr/>
        </p:nvCxnSpPr>
        <p:spPr>
          <a:xfrm>
            <a:off x="4457520" y="495144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7" idx="2"/>
            <a:endCxn id="123" idx="0"/>
          </p:cNvCxnSpPr>
          <p:nvPr/>
        </p:nvCxnSpPr>
        <p:spPr>
          <a:xfrm>
            <a:off x="3238200" y="495144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6" idx="2"/>
            <a:endCxn id="124" idx="0"/>
          </p:cNvCxnSpPr>
          <p:nvPr/>
        </p:nvCxnSpPr>
        <p:spPr>
          <a:xfrm>
            <a:off x="2018880" y="495144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5" idx="2"/>
            <a:endCxn id="122" idx="0"/>
          </p:cNvCxnSpPr>
          <p:nvPr/>
        </p:nvCxnSpPr>
        <p:spPr>
          <a:xfrm>
            <a:off x="799920" y="495144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0" idx="2"/>
            <a:endCxn id="120" idx="1"/>
          </p:cNvCxnSpPr>
          <p:nvPr/>
        </p:nvCxnSpPr>
        <p:spPr>
          <a:xfrm>
            <a:off x="7162560" y="5103360"/>
            <a:ext cx="108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flipH="1">
            <a:off x="7010280" y="1676520"/>
            <a:ext cx="1905120" cy="99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552720" y="2286000"/>
            <a:ext cx="305280" cy="533520"/>
            <a:chOff x="6552720" y="2286000"/>
            <a:chExt cx="305280" cy="533520"/>
          </a:xfrm>
        </p:grpSpPr>
        <p:sp>
          <p:nvSpPr>
            <p:cNvPr id="143" name=""/>
            <p:cNvSpPr/>
            <p:nvPr/>
          </p:nvSpPr>
          <p:spPr>
            <a:xfrm flipH="1">
              <a:off x="6628680" y="2286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5000" y="2438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552720" y="2667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5000" y="2667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25146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"/>
          <p:cNvCxnSpPr>
            <a:stCxn id="149" idx="3"/>
            <a:endCxn id="150" idx="1"/>
          </p:cNvCxnSpPr>
          <p:nvPr/>
        </p:nvCxnSpPr>
        <p:spPr>
          <a:xfrm>
            <a:off x="3047760" y="499068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52" idx="1"/>
            <a:endCxn id="153" idx="3"/>
          </p:cNvCxnSpPr>
          <p:nvPr/>
        </p:nvCxnSpPr>
        <p:spPr>
          <a:xfrm flipH="1">
            <a:off x="3047400" y="6133680"/>
            <a:ext cx="2896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sing Web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648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4648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648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52880"/>
            <a:ext cx="10666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085920" y="5066640"/>
            <a:ext cx="2057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4876920"/>
            <a:ext cx="1219320" cy="12189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M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4920" y="1295280"/>
            <a:ext cx="6629400" cy="2286000"/>
            <a:chOff x="1294920" y="1295280"/>
            <a:chExt cx="6629400" cy="2286000"/>
          </a:xfrm>
        </p:grpSpPr>
        <p:sp>
          <p:nvSpPr>
            <p:cNvPr id="160" name=""/>
            <p:cNvSpPr/>
            <p:nvPr/>
          </p:nvSpPr>
          <p:spPr>
            <a:xfrm flipH="1">
              <a:off x="4493520" y="1611720"/>
              <a:ext cx="1453320" cy="456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let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238080" y="2420640"/>
              <a:ext cx="93024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37720" y="3053520"/>
              <a:ext cx="813960" cy="421920"/>
            </a:xfrm>
            <a:prstGeom prst="can">
              <a:avLst>
                <a:gd name="adj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179760" y="3088800"/>
              <a:ext cx="813960" cy="421920"/>
            </a:xfrm>
            <a:prstGeom prst="can">
              <a:avLst>
                <a:gd name="adj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086000" y="3018600"/>
              <a:ext cx="872280" cy="562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DE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294560" y="3018600"/>
              <a:ext cx="872280" cy="562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RIS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ca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DE Addition Schem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55400" y="3018600"/>
              <a:ext cx="872280" cy="562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DE 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rite Schem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25160" y="3018600"/>
              <a:ext cx="872280" cy="562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RIS 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cab Schem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94560" y="2420640"/>
              <a:ext cx="87228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25160" y="2420640"/>
              <a:ext cx="87228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55400" y="2420640"/>
              <a:ext cx="87228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086000" y="2420640"/>
              <a:ext cx="87228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180120" y="2455920"/>
              <a:ext cx="930240" cy="386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21800" y="2490840"/>
              <a:ext cx="930240" cy="387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60" idx="2"/>
              <a:endCxn id="173" idx="0"/>
            </p:cNvCxnSpPr>
            <p:nvPr/>
          </p:nvCxnSpPr>
          <p:spPr>
            <a:xfrm>
              <a:off x="5220360" y="2068920"/>
              <a:ext cx="1367280" cy="42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0" idx="2"/>
              <a:endCxn id="171" idx="0"/>
            </p:cNvCxnSpPr>
            <p:nvPr/>
          </p:nvCxnSpPr>
          <p:spPr>
            <a:xfrm flipH="1">
              <a:off x="4522320" y="2068560"/>
              <a:ext cx="698400" cy="35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0" idx="2"/>
              <a:endCxn id="170" idx="0"/>
            </p:cNvCxnSpPr>
            <p:nvPr/>
          </p:nvCxnSpPr>
          <p:spPr>
            <a:xfrm flipH="1">
              <a:off x="3592080" y="2068560"/>
              <a:ext cx="1628640" cy="35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60" idx="2"/>
              <a:endCxn id="169" idx="0"/>
            </p:cNvCxnSpPr>
            <p:nvPr/>
          </p:nvCxnSpPr>
          <p:spPr>
            <a:xfrm flipH="1">
              <a:off x="2661840" y="2068560"/>
              <a:ext cx="2559240" cy="35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60" idx="2"/>
              <a:endCxn id="168" idx="0"/>
            </p:cNvCxnSpPr>
            <p:nvPr/>
          </p:nvCxnSpPr>
          <p:spPr>
            <a:xfrm flipH="1">
              <a:off x="1730880" y="2068560"/>
              <a:ext cx="3489840" cy="35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71" idx="2"/>
              <a:endCxn id="164" idx="0"/>
            </p:cNvCxnSpPr>
            <p:nvPr/>
          </p:nvCxnSpPr>
          <p:spPr>
            <a:xfrm flipH="1">
              <a:off x="4521960" y="280728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0" idx="2"/>
              <a:endCxn id="166" idx="0"/>
            </p:cNvCxnSpPr>
            <p:nvPr/>
          </p:nvCxnSpPr>
          <p:spPr>
            <a:xfrm flipH="1">
              <a:off x="3591720" y="280728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69" idx="2"/>
              <a:endCxn id="167" idx="0"/>
            </p:cNvCxnSpPr>
            <p:nvPr/>
          </p:nvCxnSpPr>
          <p:spPr>
            <a:xfrm flipH="1">
              <a:off x="2661120" y="280728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68" idx="2"/>
              <a:endCxn id="165" idx="0"/>
            </p:cNvCxnSpPr>
            <p:nvPr/>
          </p:nvCxnSpPr>
          <p:spPr>
            <a:xfrm flipH="1">
              <a:off x="1730520" y="280728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3" idx="2"/>
              <a:endCxn id="163" idx="1"/>
            </p:cNvCxnSpPr>
            <p:nvPr/>
          </p:nvCxnSpPr>
          <p:spPr>
            <a:xfrm flipH="1">
              <a:off x="6586560" y="287784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 flipH="1">
              <a:off x="6470640" y="1295280"/>
              <a:ext cx="1453680" cy="456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OM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UM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21800" y="1681920"/>
              <a:ext cx="232920" cy="246240"/>
              <a:chOff x="6121800" y="1681920"/>
              <a:chExt cx="232920" cy="2462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6180480" y="1681920"/>
                <a:ext cx="115920" cy="7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38080" y="1752120"/>
                <a:ext cx="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122160" y="1857960"/>
                <a:ext cx="1159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38440" y="1857960"/>
                <a:ext cx="1162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21800" y="1787400"/>
                <a:ext cx="23256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4648320" y="5791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’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791320"/>
            <a:ext cx="9144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53" idx="1"/>
            <a:endCxn id="156" idx="3"/>
          </p:cNvCxnSpPr>
          <p:nvPr/>
        </p:nvCxnSpPr>
        <p:spPr>
          <a:xfrm flipH="1" flipV="1">
            <a:off x="1294560" y="5523840"/>
            <a:ext cx="839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56" idx="3"/>
            <a:endCxn id="149" idx="1"/>
          </p:cNvCxnSpPr>
          <p:nvPr/>
        </p:nvCxnSpPr>
        <p:spPr>
          <a:xfrm flipV="1">
            <a:off x="1294920" y="4990680"/>
            <a:ext cx="839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50" idx="3"/>
            <a:endCxn id="158" idx="2"/>
          </p:cNvCxnSpPr>
          <p:nvPr/>
        </p:nvCxnSpPr>
        <p:spPr>
          <a:xfrm>
            <a:off x="6857640" y="4991040"/>
            <a:ext cx="68652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58" idx="2"/>
            <a:endCxn id="152" idx="3"/>
          </p:cNvCxnSpPr>
          <p:nvPr/>
        </p:nvCxnSpPr>
        <p:spPr>
          <a:xfrm flipH="1">
            <a:off x="6857280" y="5486040"/>
            <a:ext cx="686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1" idx="0"/>
            <a:endCxn id="150" idx="2"/>
          </p:cNvCxnSpPr>
          <p:nvPr/>
        </p:nvCxnSpPr>
        <p:spPr>
          <a:xfrm flipV="1">
            <a:off x="5105520" y="533376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 rot="7371600">
            <a:off x="1143000" y="40381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3585600">
            <a:off x="7086600" y="388584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T 2.0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IS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developed for Microsoft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other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ould be easily rewritten in java or other language because of use of 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can be configured to use any dat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General Read/Write Sch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and deploying i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2 schemas vice 300+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to change code with ever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Web service code did not have to be changes from v3.0 to v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need to maintain hundreds of sch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 can be automatically generated from CRIS Complet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63120" y="65530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 Bever</cp:lastModifiedBy>
  <dcterms:modified xsi:type="dcterms:W3CDTF">2007-02-23T14:49:07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